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9.jpeg" ContentType="image/jpeg"/>
  <Override PartName="/ppt/media/image13.wmf" ContentType="image/x-wmf"/>
  <Override PartName="/ppt/media/image30.png" ContentType="image/png"/>
  <Override PartName="/ppt/media/image10.wmf" ContentType="image/x-wmf"/>
  <Override PartName="/ppt/media/image2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4.jpeg" ContentType="image/jpeg"/>
  <Override PartName="/ppt/media/image8.wmf" ContentType="image/x-wmf"/>
  <Override PartName="/ppt/media/image26.png" ContentType="image/png"/>
  <Override PartName="/ppt/media/image3.png" ContentType="image/png"/>
  <Override PartName="/ppt/media/image31.png" ContentType="image/png"/>
  <Override PartName="/ppt/media/image14.wmf" ContentType="image/x-wmf"/>
  <Override PartName="/ppt/media/image12.wmf" ContentType="image/x-wmf"/>
  <Override PartName="/ppt/media/image27.png" ContentType="image/png"/>
  <Override PartName="/ppt/media/image6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6.wmf" ContentType="image/x-wmf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1380-87AC-4EF5-ABBC-4F2370B833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stos aminoácidos esenciales no están presentes al mismo tiempo y en proporciones específicas, los otros aminoácidos, todos o en parte, no pueden utilizarse para construir las proteínas humanas.  Cuando hay una carencia de alguno de ellos, los demás aminoácidos se convierten en compuestos productores de energía, y se excreta su nit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stos aminoácidos esenciales no están presentes al mismo tiempo y en proporciones específicas, los otros aminoácidos, todos o en parte, no pueden utilizarse para construir las proteínas humanas.  Cuando hay una carencia de alguno de ellos, los demás aminoácidos se convierten en compuestos productores de energía, y se excreta su nit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stos aminoácidos esenciales no están presentes al mismo tiempo y en proporciones específicas, los otros aminoácidos, todos o en parte, no pueden utilizarse para construir las proteínas humanas.  Cuando hay una carencia de alguno de ellos, los demás aminoácidos se convierten en compuestos productores de energía, y se excreta su nit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B01-A40A-4E69-B5B6-A6CD20F9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227-FD5D-42B1-989B-A9EE03E1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3DC-F55D-4D94-BE4E-11D6C934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C65-24E3-4D7D-88C1-2C82C78D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006-D173-4DAA-B8ED-3906C831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518-508A-47B2-8642-E8AD704E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FB8-14E7-4D3B-908E-F57354D1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5ED-83B9-4A57-B791-A29E3EF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EC7-61E3-48E0-B478-410E8FE1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95C-6141-4A2A-BABD-4C9BE48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7A6-2327-4FF4-9789-CF5F0C5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CAF-83E7-46CD-82FE-2C7F963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BE73-576F-44A4-9B85-8A7ECEBC8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5120" y="143208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LILLA 8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Metabolismo de Aminoácidos. Digestión y absorción. Catabolismo. Transaminación. Desaminación oxidativa y no oxidativa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7936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3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4956120" y="1125360"/>
          <a:ext cx="171936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6120" y="1125360"/>
                    <a:ext cx="171936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972480" y="981000"/>
          <a:ext cx="1684080" cy="31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72480" y="981000"/>
                    <a:ext cx="1684080" cy="31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140440" y="412416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Fenil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77200" y="4149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0840" y="2060640"/>
            <a:ext cx="1224000" cy="1800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77200" y="1844640"/>
            <a:ext cx="1152360" cy="23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69880" y="1359000"/>
          <a:ext cx="2057400" cy="149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9880" y="1359000"/>
                    <a:ext cx="20574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1188000" y="285768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700360" y="1197000"/>
          <a:ext cx="1976400" cy="1940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00360" y="1197000"/>
                    <a:ext cx="197640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249720" y="299736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T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2281320"/>
            <a:ext cx="1368360" cy="5745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94200" y="2136600"/>
            <a:ext cx="1726920" cy="935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68360" y="3716280"/>
            <a:ext cx="4464000" cy="942840"/>
            <a:chOff x="468360" y="3716280"/>
            <a:chExt cx="4464000" cy="942840"/>
          </a:xfrm>
        </p:grpSpPr>
        <p:sp>
          <p:nvSpPr>
            <p:cNvPr id="258" name=""/>
            <p:cNvSpPr/>
            <p:nvPr/>
          </p:nvSpPr>
          <p:spPr>
            <a:xfrm>
              <a:off x="1811880" y="4290840"/>
              <a:ext cx="20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As hidroxil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2521080" y="1663560"/>
              <a:ext cx="358560" cy="446400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116280 h 4464000"/>
                <a:gd name="textAreaBottom" fmla="*/ 4347720 h 44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076720" y="4365720"/>
            <a:ext cx="3672000" cy="686160"/>
            <a:chOff x="5076720" y="4365720"/>
            <a:chExt cx="3672000" cy="686160"/>
          </a:xfrm>
        </p:grpSpPr>
        <p:sp>
          <p:nvSpPr>
            <p:cNvPr id="261" name=""/>
            <p:cNvSpPr/>
            <p:nvPr/>
          </p:nvSpPr>
          <p:spPr>
            <a:xfrm>
              <a:off x="5387040" y="4653000"/>
              <a:ext cx="320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Aminoácidos aromá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6733440" y="2709000"/>
              <a:ext cx="358560" cy="367200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95760 h 3672000"/>
                <a:gd name="textAreaBottom" fmla="*/ 3576240 h 36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5200" y="2708280"/>
            <a:ext cx="642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ecordemos como funciona el Ciclo del N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 la naturale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266" name="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273" name="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276" name="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279" name="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282" name="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4339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4608360" cy="3062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5054760" cy="2273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9810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06720" y="981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9680" y="1197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765000"/>
            <a:ext cx="0" cy="1368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076720" y="1557360"/>
            <a:ext cx="719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1916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acteria, u otro microorganismo en asociación simbiótica con r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820836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208640" y="4569840"/>
              <a:ext cx="37548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33cc"/>
                  </a:solidFill>
                  <a:latin typeface="Arial"/>
                </a:rPr>
                <a:t>4</a:t>
              </a:r>
              <a:r>
                <a:rPr b="1" lang="en-US" sz="14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7120" y="4270320"/>
            <a:ext cx="10296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it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88960" y="7794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31800" y="765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97440" y="981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8160" y="35733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0520" y="5684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ción de CH (Ej. Glu y F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7080" y="549360"/>
            <a:ext cx="3456000" cy="934920"/>
          </a:xfrm>
          <a:prstGeom prst="downArrowCallout">
            <a:avLst>
              <a:gd name="adj1" fmla="val 49429"/>
              <a:gd name="adj2" fmla="val 42202"/>
              <a:gd name="adj3" fmla="val 18236"/>
              <a:gd name="adj4" fmla="val 50000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50440" y="15764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84520" y="2638440"/>
            <a:ext cx="358560" cy="934920"/>
          </a:xfrm>
          <a:prstGeom prst="downArrow">
            <a:avLst>
              <a:gd name="adj1" fmla="val 50000"/>
              <a:gd name="adj2" fmla="val 651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680" y="35672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42160" y="3789360"/>
            <a:ext cx="86256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9520" y="50068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800" y="3789360"/>
            <a:ext cx="86256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205080" y="3792600"/>
            <a:ext cx="72000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3960" y="35733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23960" y="48690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076720" y="3789360"/>
            <a:ext cx="72000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24040" y="35002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24040" y="4948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076720" y="3427200"/>
            <a:ext cx="0" cy="2089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7800" y="551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38720" y="306864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DP + 2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89800" y="3716280"/>
            <a:ext cx="86328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453440" y="3719520"/>
            <a:ext cx="720000" cy="14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85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8503"/>
              </a:path>
            </a:pathLst>
          </a:custGeom>
          <a:noFill/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95080" y="3500280"/>
            <a:ext cx="11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10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37680" y="4933800"/>
            <a:ext cx="147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5400000">
            <a:off x="5580720" y="45000"/>
            <a:ext cx="431640" cy="590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13080" y="24145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MPLEJO 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101080" y="5300640"/>
            <a:ext cx="0" cy="649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1440" y="60213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MINOA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1360" y="14590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46520" y="2133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avodoxin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60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2284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08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350" name="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357" name="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360" name="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363" name="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366" name="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n-US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981080" y="426960"/>
            <a:ext cx="5562720" cy="4907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30240" y="5516640"/>
            <a:ext cx="774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a absorción d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esta mediada por un mecanismo de simporte 2H</a:t>
            </a:r>
            <a:r>
              <a:rPr b="1" lang="en-US" sz="2000" spc="-1" strike="noStrike" baseline="30000">
                <a:solidFill>
                  <a:srgbClr val="ff6600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/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03920" y="26028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2440" y="254808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316840" y="2529000"/>
            <a:ext cx="1911240" cy="510120"/>
            <a:chOff x="5316840" y="2529000"/>
            <a:chExt cx="1911240" cy="510120"/>
          </a:xfrm>
        </p:grpSpPr>
        <p:sp>
          <p:nvSpPr>
            <p:cNvPr id="389" name=""/>
            <p:cNvSpPr/>
            <p:nvPr/>
          </p:nvSpPr>
          <p:spPr>
            <a:xfrm>
              <a:off x="5316840" y="252900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27640" y="2529000"/>
              <a:ext cx="100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643840" y="2449440"/>
            <a:ext cx="2921040" cy="1159920"/>
            <a:chOff x="2643840" y="2449440"/>
            <a:chExt cx="2921040" cy="1159920"/>
          </a:xfrm>
        </p:grpSpPr>
        <p:grpSp>
          <p:nvGrpSpPr>
            <p:cNvPr id="392" name=""/>
            <p:cNvGrpSpPr/>
            <p:nvPr/>
          </p:nvGrpSpPr>
          <p:grpSpPr>
            <a:xfrm>
              <a:off x="3070800" y="2889360"/>
              <a:ext cx="2089080" cy="720000"/>
              <a:chOff x="3070800" y="2889360"/>
              <a:chExt cx="2089080" cy="720000"/>
            </a:xfrm>
          </p:grpSpPr>
          <p:sp>
            <p:nvSpPr>
              <p:cNvPr id="393" name=""/>
              <p:cNvSpPr/>
              <p:nvPr/>
            </p:nvSpPr>
            <p:spPr>
              <a:xfrm flipH="1" rot="5400000">
                <a:off x="3716280" y="2528280"/>
                <a:ext cx="720000" cy="144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378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378503"/>
                  </a:path>
                </a:pathLst>
              </a:custGeom>
              <a:noFill/>
              <a:ln w="442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0800" y="2889360"/>
                <a:ext cx="2089080" cy="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643840" y="317664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H + H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04240" y="317664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74400" y="24494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Nitra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08240" y="47721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02400" y="4772160"/>
            <a:ext cx="201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2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274920" y="4575240"/>
            <a:ext cx="2309760" cy="1080720"/>
            <a:chOff x="3274920" y="4575240"/>
            <a:chExt cx="2309760" cy="1080720"/>
          </a:xfrm>
        </p:grpSpPr>
        <p:sp>
          <p:nvSpPr>
            <p:cNvPr id="401" name=""/>
            <p:cNvSpPr/>
            <p:nvPr/>
          </p:nvSpPr>
          <p:spPr>
            <a:xfrm>
              <a:off x="3274920" y="5013360"/>
              <a:ext cx="2309760" cy="144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77080" y="457524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Nitri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72280" y="50133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LU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Ferredox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580000" y="4772160"/>
            <a:ext cx="338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1.5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195880" y="5380200"/>
            <a:ext cx="1895400" cy="1363320"/>
            <a:chOff x="5195880" y="5380200"/>
            <a:chExt cx="1895400" cy="1363320"/>
          </a:xfrm>
        </p:grpSpPr>
        <p:sp>
          <p:nvSpPr>
            <p:cNvPr id="406" name=""/>
            <p:cNvSpPr/>
            <p:nvPr/>
          </p:nvSpPr>
          <p:spPr>
            <a:xfrm>
              <a:off x="6084720" y="5380200"/>
              <a:ext cx="0" cy="64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95880" y="610092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MINOA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24720" y="213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4200" y="59500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Cloroplastos o Protoplast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042920" y="2349360"/>
            <a:ext cx="5041800" cy="2374920"/>
            <a:chOff x="1042920" y="2349360"/>
            <a:chExt cx="5041800" cy="2374920"/>
          </a:xfrm>
        </p:grpSpPr>
        <p:sp>
          <p:nvSpPr>
            <p:cNvPr id="411" name=""/>
            <p:cNvSpPr/>
            <p:nvPr/>
          </p:nvSpPr>
          <p:spPr>
            <a:xfrm>
              <a:off x="5292720" y="2349360"/>
              <a:ext cx="792000" cy="863640"/>
            </a:xfrm>
            <a:prstGeom prst="ellipse">
              <a:avLst/>
            </a:prstGeom>
            <a:noFill/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042920" y="3213000"/>
              <a:ext cx="4681440" cy="15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414" name="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9280" y="401400"/>
            <a:ext cx="8820360" cy="96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xógen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ndógen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s de la die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IM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teínas de membra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vegetales o animal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enzimas, hormon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07640" y="1557360"/>
            <a:ext cx="1800" cy="428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08720" y="1557360"/>
            <a:ext cx="1800" cy="415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igestión y absorción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7640" y="249228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rot="16200000">
            <a:off x="6693840" y="2311920"/>
            <a:ext cx="578160" cy="792360"/>
          </a:xfrm>
          <a:custGeom>
            <a:avLst/>
            <a:gdLst>
              <a:gd name="textAreaLeft" fmla="*/ 144360 w 578160"/>
              <a:gd name="textAreaRight" fmla="*/ 511560 w 578160"/>
              <a:gd name="textAreaTop" fmla="*/ 562320 h 792360"/>
              <a:gd name="textAreaBottom" fmla="*/ 7012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7820"/>
                </a:moveTo>
                <a:lnTo>
                  <a:pt x="15330" y="17820"/>
                </a:lnTo>
                <a:lnTo>
                  <a:pt x="15330" y="5400"/>
                </a:lnTo>
                <a:lnTo>
                  <a:pt x="12840" y="5400"/>
                </a:lnTo>
                <a:lnTo>
                  <a:pt x="17220" y="0"/>
                </a:lnTo>
                <a:lnTo>
                  <a:pt x="21600" y="5400"/>
                </a:lnTo>
                <a:lnTo>
                  <a:pt x="19110" y="5400"/>
                </a:lnTo>
                <a:lnTo>
                  <a:pt x="191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1979280" y="2276640"/>
            <a:ext cx="576360" cy="865080"/>
          </a:xfrm>
          <a:custGeom>
            <a:avLst/>
            <a:gdLst>
              <a:gd name="textAreaLeft" fmla="*/ 144000 w 576360"/>
              <a:gd name="textAreaRight" fmla="*/ 510120 w 576360"/>
              <a:gd name="textAreaTop" fmla="*/ 614160 h 865080"/>
              <a:gd name="textAreaBottom" fmla="*/ 7653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7820"/>
                </a:moveTo>
                <a:lnTo>
                  <a:pt x="15330" y="17820"/>
                </a:lnTo>
                <a:lnTo>
                  <a:pt x="15330" y="5400"/>
                </a:lnTo>
                <a:lnTo>
                  <a:pt x="12840" y="5400"/>
                </a:lnTo>
                <a:lnTo>
                  <a:pt x="17220" y="0"/>
                </a:lnTo>
                <a:lnTo>
                  <a:pt x="21600" y="5400"/>
                </a:lnTo>
                <a:lnTo>
                  <a:pt x="19110" y="5400"/>
                </a:lnTo>
                <a:lnTo>
                  <a:pt x="191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05160" y="3360600"/>
            <a:ext cx="4327560" cy="1004760"/>
            <a:chOff x="2405160" y="3360600"/>
            <a:chExt cx="4327560" cy="1004760"/>
          </a:xfrm>
        </p:grpSpPr>
        <p:sp>
          <p:nvSpPr>
            <p:cNvPr id="426" name=""/>
            <p:cNvSpPr/>
            <p:nvPr/>
          </p:nvSpPr>
          <p:spPr>
            <a:xfrm>
              <a:off x="4643280" y="3360600"/>
              <a:ext cx="0" cy="360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405160" y="3792240"/>
              <a:ext cx="4327560" cy="573120"/>
              <a:chOff x="2405160" y="3792240"/>
              <a:chExt cx="4327560" cy="573120"/>
            </a:xfrm>
          </p:grpSpPr>
          <p:sp>
            <p:nvSpPr>
              <p:cNvPr id="428" name=""/>
              <p:cNvSpPr/>
              <p:nvPr/>
            </p:nvSpPr>
            <p:spPr>
              <a:xfrm>
                <a:off x="2405160" y="3792240"/>
                <a:ext cx="4327560" cy="573120"/>
              </a:xfrm>
              <a:prstGeom prst="rect">
                <a:avLst/>
              </a:prstGeom>
              <a:solidFill>
                <a:srgbClr val="bbe0e3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81200" y="3881520"/>
                <a:ext cx="4006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minación y/ó Desamin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12400" y="5348160"/>
            <a:ext cx="3559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- Proteí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- Aminoácidos No esen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Constituyentes nitrogen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 proteicos: purinas, pirimidi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porfirinas, ácidos biliares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826920" y="4381560"/>
            <a:ext cx="7921800" cy="987120"/>
            <a:chOff x="826920" y="4381560"/>
            <a:chExt cx="7921800" cy="987120"/>
          </a:xfrm>
        </p:grpSpPr>
        <p:sp>
          <p:nvSpPr>
            <p:cNvPr id="433" name=""/>
            <p:cNvSpPr/>
            <p:nvPr/>
          </p:nvSpPr>
          <p:spPr>
            <a:xfrm>
              <a:off x="826920" y="4773960"/>
              <a:ext cx="7921800" cy="59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gradació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iosínt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400000">
              <a:off x="4562640" y="4464720"/>
              <a:ext cx="884160" cy="717480"/>
            </a:xfrm>
            <a:custGeom>
              <a:avLst/>
              <a:gdLst>
                <a:gd name="textAreaLeft" fmla="*/ 221040 w 884160"/>
                <a:gd name="textAreaRight" fmla="*/ 782280 w 884160"/>
                <a:gd name="textAreaTop" fmla="*/ 509400 h 717480"/>
                <a:gd name="textAreaBottom" fmla="*/ 63504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16200000">
              <a:off x="3840480" y="4464000"/>
              <a:ext cx="884160" cy="718920"/>
            </a:xfrm>
            <a:custGeom>
              <a:avLst/>
              <a:gdLst>
                <a:gd name="textAreaLeft" fmla="*/ 221400 w 884160"/>
                <a:gd name="textAreaRight" fmla="*/ 782640 w 884160"/>
                <a:gd name="textAreaTop" fmla="*/ 510480 h 718920"/>
                <a:gd name="textAreaBottom" fmla="*/ 63612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0920" y="5065560"/>
            <a:ext cx="4752720" cy="745920"/>
            <a:chOff x="250920" y="5065560"/>
            <a:chExt cx="4752720" cy="745920"/>
          </a:xfrm>
        </p:grpSpPr>
        <p:sp>
          <p:nvSpPr>
            <p:cNvPr id="437" name=""/>
            <p:cNvSpPr/>
            <p:nvPr/>
          </p:nvSpPr>
          <p:spPr>
            <a:xfrm>
              <a:off x="250920" y="5445360"/>
              <a:ext cx="475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 - cetoácido         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amoníaco</a:t>
              </a:r>
              <a:r>
                <a:rPr b="0" lang="es-E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400000">
              <a:off x="2689920" y="5075640"/>
              <a:ext cx="739800" cy="719280"/>
            </a:xfrm>
            <a:custGeom>
              <a:avLst/>
              <a:gdLst>
                <a:gd name="textAreaLeft" fmla="*/ 185040 w 739800"/>
                <a:gd name="textAreaRight" fmla="*/ 654480 w 739800"/>
                <a:gd name="textAreaTop" fmla="*/ 510480 h 719280"/>
                <a:gd name="textAreaBottom" fmla="*/ 63648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6200000">
              <a:off x="1968480" y="5074920"/>
              <a:ext cx="739800" cy="720720"/>
            </a:xfrm>
            <a:custGeom>
              <a:avLst/>
              <a:gdLst>
                <a:gd name="textAreaLeft" fmla="*/ 184680 w 739800"/>
                <a:gd name="textAreaRight" fmla="*/ 654120 w 739800"/>
                <a:gd name="textAreaTop" fmla="*/ 511560 h 720720"/>
                <a:gd name="textAreaBottom" fmla="*/ 6379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820"/>
                  </a:moveTo>
                  <a:lnTo>
                    <a:pt x="15330" y="17820"/>
                  </a:lnTo>
                  <a:lnTo>
                    <a:pt x="15330" y="5400"/>
                  </a:lnTo>
                  <a:lnTo>
                    <a:pt x="12840" y="5400"/>
                  </a:lnTo>
                  <a:lnTo>
                    <a:pt x="17220" y="0"/>
                  </a:lnTo>
                  <a:lnTo>
                    <a:pt x="21600" y="5400"/>
                  </a:lnTo>
                  <a:lnTo>
                    <a:pt x="19110" y="5400"/>
                  </a:lnTo>
                  <a:lnTo>
                    <a:pt x="19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19762" r="41287" b="-1251"/>
          <a:stretch/>
        </p:blipFill>
        <p:spPr>
          <a:xfrm>
            <a:off x="1763640" y="1628640"/>
            <a:ext cx="2664000" cy="475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9036" t="44449" r="0" b="13554"/>
          <a:stretch/>
        </p:blipFill>
        <p:spPr>
          <a:xfrm>
            <a:off x="2627280" y="3068640"/>
            <a:ext cx="3673440" cy="244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33346" t="80269" r="1610" b="0"/>
          <a:stretch/>
        </p:blipFill>
        <p:spPr>
          <a:xfrm>
            <a:off x="3274920" y="5157720"/>
            <a:ext cx="2951280" cy="115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42864" t="0" r="9518" b="55526"/>
          <a:stretch/>
        </p:blipFill>
        <p:spPr>
          <a:xfrm>
            <a:off x="3708360" y="476280"/>
            <a:ext cx="2160720" cy="2593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1900080" y="3131640"/>
            <a:ext cx="583236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6200" y="4316400"/>
            <a:ext cx="239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Conjunto de reacciones químicas que tienen lugar en las células y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3645000"/>
            <a:ext cx="936720" cy="576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4437000"/>
            <a:ext cx="1079640" cy="287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6093000"/>
            <a:ext cx="1079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413000"/>
            <a:ext cx="10792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4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453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28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35200" y="40766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35280" y="2781360"/>
            <a:ext cx="1152720" cy="43164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826920" y="4797360"/>
            <a:ext cx="230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Arial"/>
                <a:ea typeface="Arial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gestión de Proteínas</a:t>
            </a:r>
            <a:br>
              <a:rPr sz="2800"/>
            </a:br>
            <a:r>
              <a:rPr b="1" lang="es-ES" sz="2800" spc="-1" strike="noStrike">
                <a:solidFill>
                  <a:srgbClr val="383cea"/>
                </a:solidFill>
                <a:latin typeface="Arial"/>
              </a:rPr>
              <a:t>I) En el estó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60720" y="5196240"/>
            <a:ext cx="132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H 1,5-2,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84360" y="5196240"/>
            <a:ext cx="2903400" cy="770040"/>
            <a:chOff x="684360" y="5196240"/>
            <a:chExt cx="2903400" cy="770040"/>
          </a:xfrm>
        </p:grpSpPr>
        <p:sp>
          <p:nvSpPr>
            <p:cNvPr id="464" name=""/>
            <p:cNvSpPr/>
            <p:nvPr/>
          </p:nvSpPr>
          <p:spPr>
            <a:xfrm>
              <a:off x="1403280" y="5196240"/>
              <a:ext cx="140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Proenzi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684360" y="5659560"/>
              <a:ext cx="2903400" cy="306720"/>
              <a:chOff x="684360" y="5659560"/>
              <a:chExt cx="2903400" cy="306720"/>
            </a:xfrm>
          </p:grpSpPr>
          <p:sp>
            <p:nvSpPr>
              <p:cNvPr id="466" name=""/>
              <p:cNvSpPr/>
              <p:nvPr/>
            </p:nvSpPr>
            <p:spPr>
              <a:xfrm>
                <a:off x="3085920" y="5659560"/>
                <a:ext cx="5018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NH</a:t>
                </a:r>
                <a:r>
                  <a:rPr b="1" lang="en-US" sz="12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84360" y="5781960"/>
                <a:ext cx="2515680" cy="115920"/>
                <a:chOff x="684360" y="5781960"/>
                <a:chExt cx="2515680" cy="115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84360" y="578196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13320" y="578232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141920" y="5782320"/>
                  <a:ext cx="22896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370880" y="578232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599480" y="5782320"/>
                  <a:ext cx="228600" cy="115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28080" y="5782320"/>
                  <a:ext cx="229680" cy="115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056680" y="5782320"/>
                  <a:ext cx="229680" cy="115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285280" y="5782320"/>
                  <a:ext cx="2282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13880" y="5782320"/>
                  <a:ext cx="22968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42480" y="5782320"/>
                  <a:ext cx="228240" cy="1141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971080" y="5782320"/>
                  <a:ext cx="228960" cy="1148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9" name="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GAST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élulas Pari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élula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35120" y="481644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Arial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resto de 42 A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276720" y="4581360"/>
            <a:ext cx="900000" cy="503280"/>
            <a:chOff x="3276720" y="4581360"/>
            <a:chExt cx="900000" cy="503280"/>
          </a:xfrm>
        </p:grpSpPr>
        <p:sp>
          <p:nvSpPr>
            <p:cNvPr id="490" name=""/>
            <p:cNvSpPr/>
            <p:nvPr/>
          </p:nvSpPr>
          <p:spPr>
            <a:xfrm>
              <a:off x="3276720" y="5084640"/>
              <a:ext cx="900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74640" y="45813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203720" y="5223240"/>
            <a:ext cx="2019240" cy="728640"/>
            <a:chOff x="4203720" y="5223240"/>
            <a:chExt cx="2019240" cy="728640"/>
          </a:xfrm>
        </p:grpSpPr>
        <p:sp>
          <p:nvSpPr>
            <p:cNvPr id="493" name=""/>
            <p:cNvSpPr/>
            <p:nvPr/>
          </p:nvSpPr>
          <p:spPr>
            <a:xfrm>
              <a:off x="4356360" y="5223240"/>
              <a:ext cx="175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nzima activa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203720" y="5645160"/>
              <a:ext cx="2019240" cy="306720"/>
              <a:chOff x="4203720" y="5645160"/>
              <a:chExt cx="2019240" cy="3067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4203720" y="5732280"/>
                <a:ext cx="1601280" cy="115920"/>
                <a:chOff x="4203720" y="5732280"/>
                <a:chExt cx="1601280" cy="1159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661280" y="5732280"/>
                  <a:ext cx="229320" cy="115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347800" y="5732280"/>
                  <a:ext cx="230040" cy="115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4203720" y="5732280"/>
                  <a:ext cx="1601280" cy="115920"/>
                  <a:chOff x="4203720" y="5732280"/>
                  <a:chExt cx="1601280" cy="1159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4889520" y="5732280"/>
                    <a:ext cx="228600" cy="115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203720" y="5733000"/>
                    <a:ext cx="229320" cy="115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432320" y="5733000"/>
                    <a:ext cx="229320" cy="114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118120" y="5732280"/>
                    <a:ext cx="230040" cy="115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576400" y="5733000"/>
                    <a:ext cx="228600" cy="114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>
                <a:off x="5721120" y="5645160"/>
                <a:ext cx="5018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NH</a:t>
                </a:r>
                <a:r>
                  <a:rPr b="1" lang="en-US" sz="12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6732720" y="5573880"/>
            <a:ext cx="1082160" cy="306720"/>
            <a:chOff x="6732720" y="5573880"/>
            <a:chExt cx="1082160" cy="306720"/>
          </a:xfrm>
        </p:grpSpPr>
        <p:grpSp>
          <p:nvGrpSpPr>
            <p:cNvPr id="506" name=""/>
            <p:cNvGrpSpPr/>
            <p:nvPr/>
          </p:nvGrpSpPr>
          <p:grpSpPr>
            <a:xfrm>
              <a:off x="6732720" y="5719680"/>
              <a:ext cx="685440" cy="111240"/>
              <a:chOff x="6732720" y="5719680"/>
              <a:chExt cx="685440" cy="111240"/>
            </a:xfrm>
          </p:grpSpPr>
          <p:sp>
            <p:nvSpPr>
              <p:cNvPr id="507" name=""/>
              <p:cNvSpPr/>
              <p:nvPr/>
            </p:nvSpPr>
            <p:spPr>
              <a:xfrm>
                <a:off x="6732720" y="5719680"/>
                <a:ext cx="229320" cy="11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960960" y="5719680"/>
                <a:ext cx="228240" cy="11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89200" y="5719680"/>
                <a:ext cx="228960" cy="11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313040" y="5573880"/>
              <a:ext cx="50184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NH</a:t>
              </a:r>
              <a:r>
                <a:rPr b="1" lang="en-US" sz="1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302480" y="333360"/>
            <a:ext cx="66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gestión de proteínas en el estó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r acción de la Pep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92440" y="1773360"/>
            <a:ext cx="1517400" cy="3783240"/>
            <a:chOff x="892440" y="1773360"/>
            <a:chExt cx="1517400" cy="3783240"/>
          </a:xfrm>
        </p:grpSpPr>
        <p:sp>
          <p:nvSpPr>
            <p:cNvPr id="513" name=""/>
            <p:cNvSpPr/>
            <p:nvPr/>
          </p:nvSpPr>
          <p:spPr>
            <a:xfrm>
              <a:off x="1004760" y="21844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19160" y="23954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04760" y="24066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33360" y="2413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61960" y="2413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90560" y="2413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30400" y="2665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60480" y="2817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55640" y="28828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62040" y="30812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14680" y="325116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32120" y="327672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06640" y="35622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36720" y="37148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31880" y="37800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38280" y="397836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0560" y="41482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19160" y="41148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400000">
              <a:off x="1385640" y="49798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1537920" y="48276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1760040" y="4762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854000" y="4564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2017440" y="439416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63800" y="508176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92440" y="51577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ff99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6280" y="1773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ff99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33640" y="2119320"/>
              <a:ext cx="0" cy="171360"/>
            </a:xfrm>
            <a:prstGeom prst="line">
              <a:avLst/>
            </a:prstGeom>
            <a:ln w="442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400000">
              <a:off x="945720" y="49798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5400000">
              <a:off x="1168200" y="4915080"/>
              <a:ext cx="228600" cy="228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06560" y="2395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02960" y="32734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2960" y="41115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979280" y="2708280"/>
            <a:ext cx="2664000" cy="1031760"/>
            <a:chOff x="1979280" y="2708280"/>
            <a:chExt cx="2664000" cy="1031760"/>
          </a:xfrm>
        </p:grpSpPr>
        <p:grpSp>
          <p:nvGrpSpPr>
            <p:cNvPr id="546" name=""/>
            <p:cNvGrpSpPr/>
            <p:nvPr/>
          </p:nvGrpSpPr>
          <p:grpSpPr>
            <a:xfrm>
              <a:off x="2836800" y="3139920"/>
              <a:ext cx="1806480" cy="600120"/>
              <a:chOff x="2836800" y="3139920"/>
              <a:chExt cx="1806480" cy="600120"/>
            </a:xfrm>
          </p:grpSpPr>
          <p:sp>
            <p:nvSpPr>
              <p:cNvPr id="547" name=""/>
              <p:cNvSpPr/>
              <p:nvPr/>
            </p:nvSpPr>
            <p:spPr>
              <a:xfrm>
                <a:off x="2893320" y="3139920"/>
                <a:ext cx="151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</a:rPr>
                  <a:t>Pepsi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836800" y="3740040"/>
                <a:ext cx="1806480" cy="0"/>
              </a:xfrm>
              <a:prstGeom prst="line">
                <a:avLst/>
              </a:prstGeom>
              <a:ln w="63360">
                <a:solidFill>
                  <a:srgbClr val="0000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 flipH="1">
              <a:off x="1979280" y="2708280"/>
              <a:ext cx="64764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031280" y="1694880"/>
            <a:ext cx="4257720" cy="3823200"/>
            <a:chOff x="4031280" y="1694880"/>
            <a:chExt cx="4257720" cy="3823200"/>
          </a:xfrm>
        </p:grpSpPr>
        <p:sp>
          <p:nvSpPr>
            <p:cNvPr id="551" name=""/>
            <p:cNvSpPr/>
            <p:nvPr/>
          </p:nvSpPr>
          <p:spPr>
            <a:xfrm>
              <a:off x="5286240" y="5149800"/>
              <a:ext cx="23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Péptidos de alto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358240" y="2681640"/>
              <a:ext cx="2930760" cy="2468520"/>
              <a:chOff x="5358240" y="2681640"/>
              <a:chExt cx="2930760" cy="2468520"/>
            </a:xfrm>
          </p:grpSpPr>
          <p:sp>
            <p:nvSpPr>
              <p:cNvPr id="553" name=""/>
              <p:cNvSpPr/>
              <p:nvPr/>
            </p:nvSpPr>
            <p:spPr>
              <a:xfrm rot="1088400">
                <a:off x="7320240" y="3031200"/>
                <a:ext cx="449280" cy="279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088400">
                <a:off x="7315200" y="329292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088400">
                <a:off x="7106400" y="338472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088400">
                <a:off x="6891480" y="338292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088400">
                <a:off x="6740640" y="354204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088400">
                <a:off x="6832440" y="3751200"/>
                <a:ext cx="228600" cy="2282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088400">
                <a:off x="7047000" y="3823920"/>
                <a:ext cx="449280" cy="279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6488400">
                <a:off x="6284160" y="44463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6488400">
                <a:off x="6476040" y="434880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6488400">
                <a:off x="6707520" y="43563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6488400">
                <a:off x="6858360" y="419688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6488400">
                <a:off x="7066800" y="40863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934600" y="4413240"/>
                <a:ext cx="53280" cy="1623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088400">
                <a:off x="5391360" y="458028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COO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6488400">
                <a:off x="5865840" y="430920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6488400">
                <a:off x="6097680" y="431676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088400">
                <a:off x="7287840" y="302688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088400">
                <a:off x="7026840" y="382212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088400">
                <a:off x="7519320" y="2782440"/>
                <a:ext cx="718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9900"/>
                    </a:solidFill>
                    <a:latin typeface="Arial"/>
                  </a:rPr>
                  <a:t>3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031280" y="1694880"/>
              <a:ext cx="2050920" cy="1893600"/>
              <a:chOff x="4031280" y="1694880"/>
              <a:chExt cx="2050920" cy="1893600"/>
            </a:xfrm>
          </p:grpSpPr>
          <p:sp>
            <p:nvSpPr>
              <p:cNvPr id="573" name=""/>
              <p:cNvSpPr/>
              <p:nvPr/>
            </p:nvSpPr>
            <p:spPr>
              <a:xfrm rot="20542800">
                <a:off x="4179600" y="226872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542800">
                <a:off x="5117400" y="2158560"/>
                <a:ext cx="449280" cy="279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0542800">
                <a:off x="4246920" y="24804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0542800">
                <a:off x="4466880" y="24174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20542800">
                <a:off x="4684680" y="234828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542800">
                <a:off x="4902480" y="227916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542800">
                <a:off x="5302800" y="241668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542800">
                <a:off x="5186880" y="26132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542800">
                <a:off x="5011560" y="273744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542800">
                <a:off x="4982400" y="295488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542800">
                <a:off x="5178960" y="30708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542800">
                <a:off x="4080960" y="1793160"/>
                <a:ext cx="718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NH</a:t>
                </a:r>
                <a:r>
                  <a:rPr b="1" lang="en-US" sz="2000" spc="-1" strike="noStrike" baseline="-25000">
                    <a:solidFill>
                      <a:srgbClr val="ff9900"/>
                    </a:solidFill>
                    <a:latin typeface="Arial"/>
                  </a:rPr>
                  <a:t>3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53400" y="2208240"/>
                <a:ext cx="51840" cy="163080"/>
              </a:xfrm>
              <a:prstGeom prst="line">
                <a:avLst/>
              </a:prstGeom>
              <a:ln w="442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542800">
                <a:off x="5108760" y="215604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0542800">
                <a:off x="5230440" y="3076200"/>
                <a:ext cx="81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COO</a:t>
                </a:r>
                <a:r>
                  <a:rPr b="1" lang="en-US" sz="2000" spc="-1" strike="noStrike" baseline="30000">
                    <a:solidFill>
                      <a:srgbClr val="ff99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2268360" y="4508640"/>
            <a:ext cx="2746440" cy="194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ES UNA ENDOPEPTID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HIDROLIZA UNIONES PEPTID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ACTUA SOBRE GRUPOS AMINO DE AMINOACIDOS AROMATICOS HIDROLIZANDO LAS PROTEINAS A POLIPEPTIDOS DE ALTO 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9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602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7968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19560" y="43070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66ff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71640" y="4510080"/>
            <a:ext cx="1295640" cy="358920"/>
          </a:xfrm>
          <a:prstGeom prst="ellipse">
            <a:avLst/>
          </a:prstGeom>
          <a:noFill/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059280" y="2637000"/>
            <a:ext cx="18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cre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284640"/>
            <a:ext cx="28796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lecistoqui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2720" y="2592360"/>
            <a:ext cx="1871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ntenido estomacal a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867280" y="2492280"/>
            <a:ext cx="2089440" cy="835560"/>
            <a:chOff x="5867280" y="2492280"/>
            <a:chExt cx="2089440" cy="835560"/>
          </a:xfrm>
        </p:grpSpPr>
        <p:sp>
          <p:nvSpPr>
            <p:cNvPr id="616" name=""/>
            <p:cNvSpPr/>
            <p:nvPr/>
          </p:nvSpPr>
          <p:spPr>
            <a:xfrm>
              <a:off x="6732720" y="2817720"/>
              <a:ext cx="1224000" cy="510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7280" y="2492280"/>
              <a:ext cx="1368720" cy="216000"/>
            </a:xfrm>
            <a:custGeom>
              <a:avLst/>
              <a:gdLst>
                <a:gd name="textAreaLeft" fmla="*/ 239400 w 1368720"/>
                <a:gd name="textAreaRight" fmla="*/ 992520 w 136872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 flipV="1">
            <a:off x="2195640" y="3933000"/>
            <a:ext cx="1368360" cy="2890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6012000" y="3645000"/>
            <a:ext cx="2952360" cy="1303200"/>
            <a:chOff x="6012000" y="3645000"/>
            <a:chExt cx="2952360" cy="1303200"/>
          </a:xfrm>
        </p:grpSpPr>
        <p:sp>
          <p:nvSpPr>
            <p:cNvPr id="620" name=""/>
            <p:cNvSpPr/>
            <p:nvPr/>
          </p:nvSpPr>
          <p:spPr>
            <a:xfrm>
              <a:off x="6832800" y="3932280"/>
              <a:ext cx="2131560" cy="1015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enzi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zimóge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12000" y="3645000"/>
              <a:ext cx="1558440" cy="215640"/>
            </a:xfrm>
            <a:custGeom>
              <a:avLst/>
              <a:gdLst>
                <a:gd name="textAreaLeft" fmla="*/ 272520 w 1558440"/>
                <a:gd name="textAreaRight" fmla="*/ 1130040 w 155844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8244000" y="2565000"/>
            <a:ext cx="649080" cy="863640"/>
            <a:chOff x="8244000" y="2565000"/>
            <a:chExt cx="649080" cy="863640"/>
          </a:xfrm>
        </p:grpSpPr>
        <p:sp>
          <p:nvSpPr>
            <p:cNvPr id="623" name=""/>
            <p:cNvSpPr/>
            <p:nvPr/>
          </p:nvSpPr>
          <p:spPr>
            <a:xfrm flipV="1">
              <a:off x="8244000" y="256500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44000" y="278136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2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638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0804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35200" y="40766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66ffff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66ffff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71640" y="4508640"/>
            <a:ext cx="863640" cy="288720"/>
          </a:xfrm>
          <a:prstGeom prst="ellipse">
            <a:avLst/>
          </a:prstGeom>
          <a:noFill/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gestión de Proteín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) En Duodeno e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Arial"/>
              </a:rPr>
              <a:t>Trip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ter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  <a:ea typeface="Arial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Quimotrips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Carboxipeptidasas A y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56360" y="6093000"/>
            <a:ext cx="1512720" cy="539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Elas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TIPO DE ENLACES PEPTIDICOS HIDROLIZAN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psina (endopeptidasa) : grupos carbonilo de        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motripsina (endopeptidasa) grupos carboxilo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378080" y="333360"/>
            <a:ext cx="65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gestión intraluminal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r acción de proteasas pancre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4840" y="2216160"/>
            <a:ext cx="1823760" cy="3864600"/>
            <a:chOff x="114840" y="2216160"/>
            <a:chExt cx="1823760" cy="3864600"/>
          </a:xfrm>
        </p:grpSpPr>
        <p:sp>
          <p:nvSpPr>
            <p:cNvPr id="667" name=""/>
            <p:cNvSpPr/>
            <p:nvPr/>
          </p:nvSpPr>
          <p:spPr>
            <a:xfrm>
              <a:off x="533520" y="262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47920" y="28386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3520" y="2849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21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907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193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58800" y="310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389240" y="3260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84400" y="3326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90440" y="3524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43080" y="3694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60520" y="371952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535040" y="400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65120" y="4157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60640" y="4222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6680" y="4421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19320" y="459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7920" y="4557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5400000">
              <a:off x="91404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5400000">
              <a:off x="1066320" y="5270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1288800" y="5205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5400000">
              <a:off x="1382400" y="50072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1545840" y="4837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2200" y="552456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4840" y="5681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4680" y="22161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040" y="25624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5400000">
              <a:off x="47448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696600" y="5357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35320" y="28386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431720" y="371664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31360" y="455472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978200" y="2200320"/>
            <a:ext cx="1782720" cy="794880"/>
            <a:chOff x="1978200" y="2200320"/>
            <a:chExt cx="1782720" cy="794880"/>
          </a:xfrm>
        </p:grpSpPr>
        <p:sp>
          <p:nvSpPr>
            <p:cNvPr id="700" name=""/>
            <p:cNvSpPr/>
            <p:nvPr/>
          </p:nvSpPr>
          <p:spPr>
            <a:xfrm flipH="1">
              <a:off x="1978200" y="2376360"/>
              <a:ext cx="1782720" cy="61884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10760" y="22003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905480" y="3470400"/>
            <a:ext cx="1899720" cy="382320"/>
            <a:chOff x="1905480" y="3470400"/>
            <a:chExt cx="1899720" cy="382320"/>
          </a:xfrm>
        </p:grpSpPr>
        <p:sp>
          <p:nvSpPr>
            <p:cNvPr id="703" name=""/>
            <p:cNvSpPr/>
            <p:nvPr/>
          </p:nvSpPr>
          <p:spPr>
            <a:xfrm>
              <a:off x="1905480" y="3470400"/>
              <a:ext cx="17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998720" y="3852720"/>
              <a:ext cx="180648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981080" y="4681080"/>
            <a:ext cx="1852560" cy="851040"/>
            <a:chOff x="1981080" y="4681080"/>
            <a:chExt cx="1852560" cy="851040"/>
          </a:xfrm>
        </p:grpSpPr>
        <p:sp>
          <p:nvSpPr>
            <p:cNvPr id="706" name=""/>
            <p:cNvSpPr/>
            <p:nvPr/>
          </p:nvSpPr>
          <p:spPr>
            <a:xfrm>
              <a:off x="2212200" y="51638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Elas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1981080" y="4681080"/>
              <a:ext cx="1852560" cy="80460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3809880" y="1658880"/>
            <a:ext cx="1482120" cy="1354320"/>
            <a:chOff x="3809880" y="1658880"/>
            <a:chExt cx="1482120" cy="1354320"/>
          </a:xfrm>
        </p:grpSpPr>
        <p:sp>
          <p:nvSpPr>
            <p:cNvPr id="709" name=""/>
            <p:cNvSpPr/>
            <p:nvPr/>
          </p:nvSpPr>
          <p:spPr>
            <a:xfrm>
              <a:off x="3809880" y="2070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24280" y="2280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09880" y="229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384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70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956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21400" y="16588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38760" y="200484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1680" y="228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51440" y="25682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82000" y="2614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962520" y="3009960"/>
            <a:ext cx="1186920" cy="1718280"/>
            <a:chOff x="3962520" y="3009960"/>
            <a:chExt cx="1186920" cy="1718280"/>
          </a:xfrm>
        </p:grpSpPr>
        <p:sp>
          <p:nvSpPr>
            <p:cNvPr id="721" name=""/>
            <p:cNvSpPr/>
            <p:nvPr/>
          </p:nvSpPr>
          <p:spPr>
            <a:xfrm>
              <a:off x="4430880" y="3413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60960" y="3565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56120" y="363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2520" y="3829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14800" y="3998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32240" y="40244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03440" y="4021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30880" y="30099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48240" y="33562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54360" y="42656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84920" y="43293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025880" y="4738680"/>
            <a:ext cx="1194840" cy="1649520"/>
            <a:chOff x="4025880" y="4738680"/>
            <a:chExt cx="1194840" cy="1649520"/>
          </a:xfrm>
        </p:grpSpPr>
        <p:sp>
          <p:nvSpPr>
            <p:cNvPr id="733" name=""/>
            <p:cNvSpPr/>
            <p:nvPr/>
          </p:nvSpPr>
          <p:spPr>
            <a:xfrm>
              <a:off x="4494240" y="51480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24320" y="530028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9480" y="53654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25880" y="55638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78160" y="5733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06760" y="5700600"/>
              <a:ext cx="449280" cy="27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90560" y="56973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02160" y="47386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19520" y="5084640"/>
              <a:ext cx="0" cy="171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38600" y="5925960"/>
              <a:ext cx="0" cy="11232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69160" y="5989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7331040" y="3411360"/>
            <a:ext cx="1223280" cy="1321200"/>
            <a:chOff x="7331040" y="3411360"/>
            <a:chExt cx="1223280" cy="1321200"/>
          </a:xfrm>
        </p:grpSpPr>
        <p:sp>
          <p:nvSpPr>
            <p:cNvPr id="745" name=""/>
            <p:cNvSpPr/>
            <p:nvPr/>
          </p:nvSpPr>
          <p:spPr>
            <a:xfrm>
              <a:off x="7799400" y="3821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29480" y="3973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24640" y="4038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31040" y="4236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83320" y="4406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07320" y="3411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4680" y="3757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44320" y="43336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610400" y="452088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189920" y="2268360"/>
            <a:ext cx="1745280" cy="1220760"/>
            <a:chOff x="7189920" y="2268360"/>
            <a:chExt cx="1745280" cy="1220760"/>
          </a:xfrm>
        </p:grpSpPr>
        <p:sp>
          <p:nvSpPr>
            <p:cNvPr id="755" name=""/>
            <p:cNvSpPr/>
            <p:nvPr/>
          </p:nvSpPr>
          <p:spPr>
            <a:xfrm>
              <a:off x="7189920" y="2679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89920" y="2901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185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471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8757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01080" y="2268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18440" y="2614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125200" y="28317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8008920" y="301932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94240" y="3120840"/>
              <a:ext cx="17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igopépt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236000" y="1628640"/>
            <a:ext cx="1585800" cy="619920"/>
            <a:chOff x="7236000" y="1628640"/>
            <a:chExt cx="1585800" cy="619920"/>
          </a:xfrm>
        </p:grpSpPr>
        <p:sp>
          <p:nvSpPr>
            <p:cNvPr id="766" name=""/>
            <p:cNvSpPr/>
            <p:nvPr/>
          </p:nvSpPr>
          <p:spPr>
            <a:xfrm>
              <a:off x="7726320" y="163008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13720" y="1630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00800" y="164124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20160" y="177624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236000" y="162864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651800" y="177624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10880" y="191124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A Bás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243920" y="4935600"/>
            <a:ext cx="1609560" cy="1131120"/>
            <a:chOff x="7243920" y="4935600"/>
            <a:chExt cx="1609560" cy="1131120"/>
          </a:xfrm>
        </p:grpSpPr>
        <p:sp>
          <p:nvSpPr>
            <p:cNvPr id="774" name=""/>
            <p:cNvSpPr/>
            <p:nvPr/>
          </p:nvSpPr>
          <p:spPr>
            <a:xfrm>
              <a:off x="7758000" y="53816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745040" y="538164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32480" y="53928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51840" y="55278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67680" y="53802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683480" y="552780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4240" y="49374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21280" y="49374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208720" y="49482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28080" y="50832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43920" y="49356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659720" y="5082840"/>
              <a:ext cx="147600" cy="180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95400" y="572940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A Neu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334120" y="1793880"/>
            <a:ext cx="1868400" cy="642600"/>
            <a:chOff x="5334120" y="1793880"/>
            <a:chExt cx="1868400" cy="642600"/>
          </a:xfrm>
        </p:grpSpPr>
        <p:sp>
          <p:nvSpPr>
            <p:cNvPr id="788" name=""/>
            <p:cNvSpPr/>
            <p:nvPr/>
          </p:nvSpPr>
          <p:spPr>
            <a:xfrm flipH="1">
              <a:off x="5334120" y="2421000"/>
              <a:ext cx="186840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02520" y="179388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arbox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Peptid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293800" y="4124160"/>
            <a:ext cx="1868760" cy="642600"/>
            <a:chOff x="5293800" y="4124160"/>
            <a:chExt cx="1868760" cy="642600"/>
          </a:xfrm>
        </p:grpSpPr>
        <p:sp>
          <p:nvSpPr>
            <p:cNvPr id="791" name=""/>
            <p:cNvSpPr/>
            <p:nvPr/>
          </p:nvSpPr>
          <p:spPr>
            <a:xfrm flipH="1">
              <a:off x="5293800" y="4751280"/>
              <a:ext cx="186876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62920" y="41241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Carbox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Peptidas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6732720" y="2246400"/>
            <a:ext cx="2411280" cy="25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04000" y="3181320"/>
            <a:ext cx="2340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eptid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7" dur="2000" fill="hold"/>
                                        <p:tgtEl>
                                          <p:spTgt spid="7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9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966600" y="64296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¿Cómo se digieren las proteínas de la dieta en el huma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irma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5592600" cy="561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301360" y="638172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12000" y="2637000"/>
            <a:ext cx="1152360" cy="43164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093800" y="1774440"/>
            <a:ext cx="648000" cy="1077480"/>
            <a:chOff x="7093800" y="1774440"/>
            <a:chExt cx="648000" cy="1077480"/>
          </a:xfrm>
        </p:grpSpPr>
        <p:sp>
          <p:nvSpPr>
            <p:cNvPr id="808" name=""/>
            <p:cNvSpPr/>
            <p:nvPr/>
          </p:nvSpPr>
          <p:spPr>
            <a:xfrm flipV="1">
              <a:off x="7163640" y="1774080"/>
              <a:ext cx="578160" cy="10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093800" y="2348640"/>
              <a:ext cx="57816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69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691443"/>
                </a:path>
              </a:pathLst>
            </a:custGeom>
            <a:noFill/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924360" y="2492280"/>
            <a:ext cx="647640" cy="43200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95280" y="39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35200" y="4076640"/>
            <a:ext cx="59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78520" y="43657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lecistoqui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71640" y="4437000"/>
            <a:ext cx="1295640" cy="50472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227640" y="5661000"/>
            <a:ext cx="1295640" cy="504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90560" y="5291280"/>
            <a:ext cx="129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Dipépt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Arial"/>
              </a:rPr>
              <a:t>Tripépt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1840" y="733320"/>
            <a:ext cx="837252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Conocimientos prev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l nitr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istemas digestivo, circulatorio, endocr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structura química de proteínas y aminoácidos. Nomencl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Transporte mediado activo. Difusión facil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tividad enzimática y su regulación. Acción de cofactores y mod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Metabolismo. Regulación. Balance energ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Gluc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 Kre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3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542160" y="326880"/>
            <a:ext cx="82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bsorción intestinal de aminoácidos y pép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95280" y="1413000"/>
            <a:ext cx="85694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- Ocurre p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ransportadores de aminoácidos y péptidos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del borde en cepillo de las células intesti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- Transpor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ctivo N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dependiente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y transpor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asivo N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independiente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- Necesidad de múltiples transportadores determinados por l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iferencia de tamaño y carga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de los aminoácidos y pép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6240600" y="4087800"/>
            <a:ext cx="1709640" cy="701640"/>
            <a:chOff x="6240600" y="4087800"/>
            <a:chExt cx="1709640" cy="701640"/>
          </a:xfrm>
        </p:grpSpPr>
        <p:sp>
          <p:nvSpPr>
            <p:cNvPr id="820" name=""/>
            <p:cNvSpPr/>
            <p:nvPr/>
          </p:nvSpPr>
          <p:spPr>
            <a:xfrm>
              <a:off x="6240600" y="4176720"/>
              <a:ext cx="25560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1120" y="4168800"/>
              <a:ext cx="249120" cy="615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61280" y="4186080"/>
              <a:ext cx="239400" cy="55728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54960" y="4173480"/>
              <a:ext cx="25560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75640" y="4181400"/>
              <a:ext cx="20304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39080" y="4173480"/>
              <a:ext cx="21744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42120" y="4173480"/>
              <a:ext cx="233280" cy="615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8120" y="4168800"/>
              <a:ext cx="249120" cy="615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34280" y="4087800"/>
              <a:ext cx="345960" cy="24444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492800" y="4119480"/>
            <a:ext cx="1571400" cy="641520"/>
            <a:chOff x="4492800" y="4119480"/>
            <a:chExt cx="1571400" cy="641520"/>
          </a:xfrm>
        </p:grpSpPr>
        <p:sp>
          <p:nvSpPr>
            <p:cNvPr id="830" name=""/>
            <p:cNvSpPr/>
            <p:nvPr/>
          </p:nvSpPr>
          <p:spPr>
            <a:xfrm>
              <a:off x="4492800" y="4200480"/>
              <a:ext cx="29196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22840" y="4189320"/>
              <a:ext cx="27288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51600" y="4189320"/>
              <a:ext cx="272880" cy="558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38840" y="4197240"/>
              <a:ext cx="241200" cy="55908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80200" y="4178160"/>
              <a:ext cx="27288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95840" y="4172040"/>
              <a:ext cx="271440" cy="55728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10400" y="4178160"/>
              <a:ext cx="253800" cy="560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6280" y="4119480"/>
              <a:ext cx="345960" cy="2365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3995640" y="4441680"/>
            <a:ext cx="3956040" cy="1527480"/>
          </a:xfrm>
          <a:prstGeom prst="roundRect">
            <a:avLst>
              <a:gd name="adj" fmla="val 12468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0680" y="36504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ansporte intestinal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8600" y="121932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curre por varios mec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% Relativo para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. activo dependiente de N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. facilitado independiente de N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fusión pasiv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&lt; 5%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265640" y="4192560"/>
            <a:ext cx="271440" cy="558720"/>
          </a:xfrm>
          <a:prstGeom prst="octagon">
            <a:avLst>
              <a:gd name="adj" fmla="val 29264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026040" y="4168800"/>
            <a:ext cx="254160" cy="558720"/>
          </a:xfrm>
          <a:prstGeom prst="octagon">
            <a:avLst>
              <a:gd name="adj" fmla="val 29264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85160" y="3657600"/>
            <a:ext cx="171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013280" y="4181400"/>
            <a:ext cx="249120" cy="615960"/>
          </a:xfrm>
          <a:prstGeom prst="octagon">
            <a:avLst>
              <a:gd name="adj" fmla="val 29264"/>
            </a:avLst>
          </a:prstGeom>
          <a:solidFill>
            <a:srgbClr val="ffa2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010040" y="4365720"/>
            <a:ext cx="3927600" cy="53964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143000" y="3540240"/>
            <a:ext cx="16196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TEST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047960" y="4959360"/>
            <a:ext cx="1790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TEROC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294560" y="6110280"/>
            <a:ext cx="12816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AN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969920" y="4205160"/>
            <a:ext cx="1995480" cy="18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41480" y="5934240"/>
            <a:ext cx="20019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681440" y="5891040"/>
            <a:ext cx="347760" cy="135000"/>
          </a:xfrm>
          <a:prstGeom prst="ellipse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794320" y="3664080"/>
            <a:ext cx="1719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365960" y="5891040"/>
            <a:ext cx="347760" cy="135000"/>
          </a:xfrm>
          <a:prstGeom prst="ellipse">
            <a:avLst/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6334920" y="3831480"/>
            <a:ext cx="1557360" cy="1239840"/>
            <a:chOff x="6334920" y="3831480"/>
            <a:chExt cx="1557360" cy="1239840"/>
          </a:xfrm>
        </p:grpSpPr>
        <p:grpSp>
          <p:nvGrpSpPr>
            <p:cNvPr id="855" name=""/>
            <p:cNvGrpSpPr/>
            <p:nvPr/>
          </p:nvGrpSpPr>
          <p:grpSpPr>
            <a:xfrm>
              <a:off x="6707520" y="3831480"/>
              <a:ext cx="961200" cy="1088640"/>
              <a:chOff x="6707520" y="3831480"/>
              <a:chExt cx="961200" cy="1088640"/>
            </a:xfrm>
          </p:grpSpPr>
          <p:sp>
            <p:nvSpPr>
              <p:cNvPr id="856" name=""/>
              <p:cNvSpPr/>
              <p:nvPr/>
            </p:nvSpPr>
            <p:spPr>
              <a:xfrm flipH="1" rot="4720800">
                <a:off x="6711840" y="3980880"/>
                <a:ext cx="952200" cy="78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 rot="4720800">
                <a:off x="6720840" y="4027320"/>
                <a:ext cx="419400" cy="304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6334920" y="479124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 rot="4720200">
              <a:off x="6570360" y="4124880"/>
              <a:ext cx="86580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956760" y="3767040"/>
            <a:ext cx="2208600" cy="1313640"/>
            <a:chOff x="3956760" y="3767040"/>
            <a:chExt cx="2208600" cy="1313640"/>
          </a:xfrm>
        </p:grpSpPr>
        <p:sp>
          <p:nvSpPr>
            <p:cNvPr id="861" name=""/>
            <p:cNvSpPr/>
            <p:nvPr/>
          </p:nvSpPr>
          <p:spPr>
            <a:xfrm>
              <a:off x="5612400" y="3767040"/>
              <a:ext cx="551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3956760" y="3823560"/>
              <a:ext cx="966240" cy="1060920"/>
              <a:chOff x="3956760" y="3823560"/>
              <a:chExt cx="966240" cy="1060920"/>
            </a:xfrm>
          </p:grpSpPr>
          <p:sp>
            <p:nvSpPr>
              <p:cNvPr id="863" name=""/>
              <p:cNvSpPr/>
              <p:nvPr/>
            </p:nvSpPr>
            <p:spPr>
              <a:xfrm flipV="1" rot="16879200">
                <a:off x="4197600" y="4104360"/>
                <a:ext cx="84276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84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84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  <a:headEnd len="med" type="triangle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3956760" y="3823560"/>
                <a:ext cx="954720" cy="1060920"/>
                <a:chOff x="3956760" y="3823560"/>
                <a:chExt cx="954720" cy="1060920"/>
              </a:xfrm>
            </p:grpSpPr>
            <p:sp>
              <p:nvSpPr>
                <p:cNvPr id="865" name=""/>
                <p:cNvSpPr/>
                <p:nvPr/>
              </p:nvSpPr>
              <p:spPr>
                <a:xfrm rot="16879200">
                  <a:off x="3971880" y="3959640"/>
                  <a:ext cx="924120" cy="78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6879200">
                  <a:off x="4486320" y="4012200"/>
                  <a:ext cx="406800" cy="304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"/>
            <p:cNvGrpSpPr/>
            <p:nvPr/>
          </p:nvGrpSpPr>
          <p:grpSpPr>
            <a:xfrm>
              <a:off x="5204880" y="3819600"/>
              <a:ext cx="915480" cy="861480"/>
              <a:chOff x="5204880" y="3819600"/>
              <a:chExt cx="915480" cy="861480"/>
            </a:xfrm>
          </p:grpSpPr>
          <p:sp>
            <p:nvSpPr>
              <p:cNvPr id="868" name=""/>
              <p:cNvSpPr/>
              <p:nvPr/>
            </p:nvSpPr>
            <p:spPr>
              <a:xfrm flipH="1" rot="4720800">
                <a:off x="5302080" y="3855240"/>
                <a:ext cx="720360" cy="78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4720800">
                <a:off x="5257800" y="3959280"/>
                <a:ext cx="317160" cy="304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5613840" y="4462560"/>
              <a:ext cx="551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6720" y="480060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4720200">
              <a:off x="5151960" y="4014000"/>
              <a:ext cx="657000" cy="45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336640" y="4772160"/>
            <a:ext cx="1826640" cy="1748880"/>
            <a:chOff x="5336640" y="4772160"/>
            <a:chExt cx="1826640" cy="1748880"/>
          </a:xfrm>
        </p:grpSpPr>
        <p:grpSp>
          <p:nvGrpSpPr>
            <p:cNvPr id="874" name=""/>
            <p:cNvGrpSpPr/>
            <p:nvPr/>
          </p:nvGrpSpPr>
          <p:grpSpPr>
            <a:xfrm>
              <a:off x="5646960" y="4772160"/>
              <a:ext cx="1374840" cy="1748880"/>
              <a:chOff x="5646960" y="4772160"/>
              <a:chExt cx="1374840" cy="1748880"/>
            </a:xfrm>
          </p:grpSpPr>
          <p:sp>
            <p:nvSpPr>
              <p:cNvPr id="875" name=""/>
              <p:cNvSpPr/>
              <p:nvPr/>
            </p:nvSpPr>
            <p:spPr>
              <a:xfrm flipH="1">
                <a:off x="5901480" y="5780160"/>
                <a:ext cx="244440" cy="24444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6059160" y="5596560"/>
                <a:ext cx="962640" cy="839880"/>
                <a:chOff x="6059160" y="5596560"/>
                <a:chExt cx="962640" cy="839880"/>
              </a:xfrm>
            </p:grpSpPr>
            <p:sp>
              <p:nvSpPr>
                <p:cNvPr id="877" name=""/>
                <p:cNvSpPr/>
                <p:nvPr/>
              </p:nvSpPr>
              <p:spPr>
                <a:xfrm flipH="1" rot="17735400">
                  <a:off x="6118200" y="5747040"/>
                  <a:ext cx="504360" cy="4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88"/>
                      </a:moveTo>
                      <a:arcTo wR="10800" hR="10800" stAng="-10764191" swAng="53484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88"/>
                      </a:moveTo>
                      <a:arcTo wR="10800" hR="10800" stAng="-10764191" swAng="534842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  <a:headEnd len="med" type="triangle" w="med"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6071400" y="5596560"/>
                  <a:ext cx="950400" cy="839880"/>
                  <a:chOff x="6071400" y="5596560"/>
                  <a:chExt cx="950400" cy="83988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flipH="1" flipV="1" rot="17735400">
                    <a:off x="6269760" y="5621400"/>
                    <a:ext cx="553320" cy="788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ffffff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 rot="17735400">
                    <a:off x="6170760" y="5899320"/>
                    <a:ext cx="24372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1" name=""/>
              <p:cNvSpPr/>
              <p:nvPr/>
            </p:nvSpPr>
            <p:spPr>
              <a:xfrm flipH="1">
                <a:off x="5646600" y="6265800"/>
                <a:ext cx="449640" cy="2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Na</a:t>
                </a:r>
                <a:r>
                  <a:rPr b="1" lang="en-US" sz="16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419880" y="6141960"/>
                <a:ext cx="336600" cy="2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5841720" y="4772160"/>
                <a:ext cx="4680" cy="15350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6453360" y="5664240"/>
                <a:ext cx="336600" cy="25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K</a:t>
                </a:r>
                <a:r>
                  <a:rPr b="1" lang="en-US" sz="16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336640" y="53737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TP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→ ADP+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066560" y="5084280"/>
            <a:ext cx="4240080" cy="1475640"/>
            <a:chOff x="4066560" y="5084280"/>
            <a:chExt cx="4240080" cy="1475640"/>
          </a:xfrm>
        </p:grpSpPr>
        <p:sp>
          <p:nvSpPr>
            <p:cNvPr id="887" name=""/>
            <p:cNvSpPr/>
            <p:nvPr/>
          </p:nvSpPr>
          <p:spPr>
            <a:xfrm flipV="1">
              <a:off x="4844880" y="5084280"/>
              <a:ext cx="1800" cy="1204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66560" y="627984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7529400" y="5084280"/>
              <a:ext cx="1800" cy="1204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49280" y="626256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539640" y="4149720"/>
            <a:ext cx="3384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39640" y="5950080"/>
            <a:ext cx="3384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667640" y="3933720"/>
            <a:ext cx="0" cy="790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2000"/>
                                        <p:tgtEl>
                                          <p:spTgt spid="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3638520" y="3005280"/>
            <a:ext cx="4741920" cy="941400"/>
            <a:chOff x="3638520" y="3005280"/>
            <a:chExt cx="4741920" cy="941400"/>
          </a:xfrm>
        </p:grpSpPr>
        <p:sp>
          <p:nvSpPr>
            <p:cNvPr id="895" name=""/>
            <p:cNvSpPr/>
            <p:nvPr/>
          </p:nvSpPr>
          <p:spPr>
            <a:xfrm>
              <a:off x="3941640" y="3105000"/>
              <a:ext cx="32724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14880" y="3116160"/>
              <a:ext cx="35244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92800" y="3100320"/>
              <a:ext cx="3283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08680" y="3100320"/>
              <a:ext cx="3283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753080" y="3111480"/>
              <a:ext cx="2905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84800" y="3086280"/>
              <a:ext cx="32868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43640" y="3076560"/>
              <a:ext cx="326880" cy="774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02480" y="3086280"/>
              <a:ext cx="30636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2760" y="3071880"/>
              <a:ext cx="30636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21600" y="3083040"/>
              <a:ext cx="30636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586560" y="3095640"/>
              <a:ext cx="289080" cy="7747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19840" y="3078000"/>
              <a:ext cx="30816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85160" y="3090960"/>
              <a:ext cx="245880" cy="77760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83520" y="3078000"/>
              <a:ext cx="261720" cy="7779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26160" y="3078000"/>
              <a:ext cx="282600" cy="857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86800" y="3071880"/>
              <a:ext cx="299880" cy="8571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080200" y="3071880"/>
              <a:ext cx="300240" cy="85716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638520" y="3089160"/>
              <a:ext cx="300240" cy="857520"/>
            </a:xfrm>
            <a:prstGeom prst="octagon">
              <a:avLst>
                <a:gd name="adj" fmla="val 29264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89360" y="3005280"/>
              <a:ext cx="417600" cy="32688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2877480" y="2538360"/>
            <a:ext cx="140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ép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616200" y="3429000"/>
            <a:ext cx="4765680" cy="2216160"/>
            <a:chOff x="3616200" y="3429000"/>
            <a:chExt cx="4765680" cy="2216160"/>
          </a:xfrm>
        </p:grpSpPr>
        <p:sp>
          <p:nvSpPr>
            <p:cNvPr id="916" name=""/>
            <p:cNvSpPr/>
            <p:nvPr/>
          </p:nvSpPr>
          <p:spPr>
            <a:xfrm>
              <a:off x="3616200" y="3452760"/>
              <a:ext cx="4765680" cy="2192400"/>
            </a:xfrm>
            <a:prstGeom prst="roundRect">
              <a:avLst>
                <a:gd name="adj" fmla="val 12468"/>
              </a:avLst>
            </a:prstGeom>
            <a:solidFill>
              <a:srgbClr val="ffa27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33840" y="3429000"/>
              <a:ext cx="4730760" cy="749160"/>
            </a:xfrm>
            <a:prstGeom prst="rect">
              <a:avLst/>
            </a:pr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448200" y="2362320"/>
            <a:ext cx="191376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04560" y="4219560"/>
            <a:ext cx="2118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TERO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00560" y="5867280"/>
            <a:ext cx="150840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ANG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301280" y="3986280"/>
            <a:ext cx="1716480" cy="1041840"/>
            <a:chOff x="4301280" y="3986280"/>
            <a:chExt cx="1716480" cy="1041840"/>
          </a:xfrm>
        </p:grpSpPr>
        <p:sp>
          <p:nvSpPr>
            <p:cNvPr id="922" name=""/>
            <p:cNvSpPr/>
            <p:nvPr/>
          </p:nvSpPr>
          <p:spPr>
            <a:xfrm flipH="1" flipV="1">
              <a:off x="4532040" y="4062240"/>
              <a:ext cx="608040" cy="609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26160" y="3986280"/>
              <a:ext cx="11916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eptidas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itosól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01280" y="4748040"/>
              <a:ext cx="155736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250920" y="3068640"/>
            <a:ext cx="33130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0920" y="5589720"/>
            <a:ext cx="33130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93520" y="45252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ansporte intestinal de péptidos pequ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73600" y="5522760"/>
            <a:ext cx="417240" cy="187560"/>
          </a:xfrm>
          <a:prstGeom prst="ellipse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906800" y="5522760"/>
            <a:ext cx="417600" cy="187560"/>
          </a:xfrm>
          <a:prstGeom prst="ellipse">
            <a:avLst/>
          </a:prstGeom>
          <a:solidFill>
            <a:srgbClr val="8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854240" y="5028840"/>
            <a:ext cx="1392840" cy="1260360"/>
            <a:chOff x="4854240" y="5028840"/>
            <a:chExt cx="1392840" cy="1260360"/>
          </a:xfrm>
        </p:grpSpPr>
        <p:sp>
          <p:nvSpPr>
            <p:cNvPr id="931" name=""/>
            <p:cNvSpPr/>
            <p:nvPr/>
          </p:nvSpPr>
          <p:spPr>
            <a:xfrm flipV="1">
              <a:off x="5113440" y="5028840"/>
              <a:ext cx="1440" cy="996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54240" y="6033960"/>
              <a:ext cx="139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minoác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607200" y="4062240"/>
            <a:ext cx="976680" cy="2230200"/>
            <a:chOff x="3607200" y="4062240"/>
            <a:chExt cx="976680" cy="2230200"/>
          </a:xfrm>
        </p:grpSpPr>
        <p:sp>
          <p:nvSpPr>
            <p:cNvPr id="934" name=""/>
            <p:cNvSpPr/>
            <p:nvPr/>
          </p:nvSpPr>
          <p:spPr>
            <a:xfrm flipV="1">
              <a:off x="4073400" y="4062240"/>
              <a:ext cx="1800" cy="19814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07200" y="6037200"/>
              <a:ext cx="9766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épt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33520" y="1371600"/>
            <a:ext cx="821520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porte activo de di- y tripéptidos acoplado a hidroge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604680" y="2514600"/>
            <a:ext cx="4402080" cy="1471320"/>
            <a:chOff x="3604680" y="2514600"/>
            <a:chExt cx="4402080" cy="1471320"/>
          </a:xfrm>
        </p:grpSpPr>
        <p:sp>
          <p:nvSpPr>
            <p:cNvPr id="938" name=""/>
            <p:cNvSpPr/>
            <p:nvPr/>
          </p:nvSpPr>
          <p:spPr>
            <a:xfrm>
              <a:off x="6512040" y="2960640"/>
              <a:ext cx="417240" cy="33984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46880" y="2514600"/>
              <a:ext cx="614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15120" y="3681360"/>
              <a:ext cx="119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71720" y="3529080"/>
              <a:ext cx="444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5407920" y="2546280"/>
              <a:ext cx="1142280" cy="1170000"/>
              <a:chOff x="5407920" y="2546280"/>
              <a:chExt cx="1142280" cy="1170000"/>
            </a:xfrm>
          </p:grpSpPr>
          <p:sp>
            <p:nvSpPr>
              <p:cNvPr id="943" name=""/>
              <p:cNvSpPr/>
              <p:nvPr/>
            </p:nvSpPr>
            <p:spPr>
              <a:xfrm rot="4720800">
                <a:off x="5737320" y="2881800"/>
                <a:ext cx="914040" cy="54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84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84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  <a:headEnd len="med" type="triangle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5407920" y="2546280"/>
                <a:ext cx="1129320" cy="1170000"/>
                <a:chOff x="5407920" y="2546280"/>
                <a:chExt cx="1129320" cy="1170000"/>
              </a:xfrm>
            </p:grpSpPr>
            <p:sp>
              <p:nvSpPr>
                <p:cNvPr id="945" name=""/>
                <p:cNvSpPr/>
                <p:nvPr/>
              </p:nvSpPr>
              <p:spPr>
                <a:xfrm flipV="1" rot="4720800">
                  <a:off x="5470920" y="2655720"/>
                  <a:ext cx="1002600" cy="95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 rot="4720800">
                  <a:off x="6054120" y="3148560"/>
                  <a:ext cx="441360" cy="366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6877080" y="2626920"/>
              <a:ext cx="1129680" cy="1170000"/>
              <a:chOff x="6877080" y="2626920"/>
              <a:chExt cx="1129680" cy="1170000"/>
            </a:xfrm>
          </p:grpSpPr>
          <p:sp>
            <p:nvSpPr>
              <p:cNvPr id="948" name=""/>
              <p:cNvSpPr/>
              <p:nvPr/>
            </p:nvSpPr>
            <p:spPr>
              <a:xfrm flipH="1" rot="4720800">
                <a:off x="6940440" y="2736360"/>
                <a:ext cx="1002600" cy="95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rot="4720800">
                <a:off x="6918480" y="2827800"/>
                <a:ext cx="441360" cy="36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7348680" y="2530440"/>
              <a:ext cx="614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313760" y="3476520"/>
              <a:ext cx="614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612720"/>
                  <a:tab algn="l" pos="1225440"/>
                  <a:tab algn="l" pos="1838160"/>
                  <a:tab algn="l" pos="2451240"/>
                  <a:tab algn="l" pos="3063960"/>
                  <a:tab algn="l" pos="3676680"/>
                  <a:tab algn="l" pos="4289400"/>
                  <a:tab algn="l" pos="4902120"/>
                  <a:tab algn="l" pos="5514840"/>
                  <a:tab algn="l" pos="6127920"/>
                  <a:tab algn="l" pos="6740640"/>
                  <a:tab algn="l" pos="7353360"/>
                  <a:tab algn="l" pos="7966080"/>
                  <a:tab algn="l" pos="8578800"/>
                  <a:tab algn="l" pos="9191520"/>
                  <a:tab algn="l" pos="9804240"/>
                  <a:tab algn="l" pos="104173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a</a:t>
              </a:r>
              <a:r>
                <a:rPr b="1" lang="en-US" sz="24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604680" y="2615760"/>
              <a:ext cx="1142280" cy="1169640"/>
              <a:chOff x="3604680" y="2615760"/>
              <a:chExt cx="1142280" cy="1169640"/>
            </a:xfrm>
          </p:grpSpPr>
          <p:sp>
            <p:nvSpPr>
              <p:cNvPr id="953" name=""/>
              <p:cNvSpPr/>
              <p:nvPr/>
            </p:nvSpPr>
            <p:spPr>
              <a:xfrm flipV="1" rot="16879200">
                <a:off x="3934080" y="2907360"/>
                <a:ext cx="914040" cy="54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53484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5348422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  <a:headEnd len="med" type="triangle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"/>
              <p:cNvGrpSpPr/>
              <p:nvPr/>
            </p:nvGrpSpPr>
            <p:grpSpPr>
              <a:xfrm>
                <a:off x="3604680" y="2615760"/>
                <a:ext cx="1128960" cy="1169640"/>
                <a:chOff x="3604680" y="2615760"/>
                <a:chExt cx="1128960" cy="1169640"/>
              </a:xfrm>
            </p:grpSpPr>
            <p:sp>
              <p:nvSpPr>
                <p:cNvPr id="955" name=""/>
                <p:cNvSpPr/>
                <p:nvPr/>
              </p:nvSpPr>
              <p:spPr>
                <a:xfrm rot="16879200">
                  <a:off x="3667680" y="2725200"/>
                  <a:ext cx="1002600" cy="95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rot="16879200">
                  <a:off x="4250880" y="2816640"/>
                  <a:ext cx="441360" cy="366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7" name=""/>
            <p:cNvGrpSpPr/>
            <p:nvPr/>
          </p:nvGrpSpPr>
          <p:grpSpPr>
            <a:xfrm>
              <a:off x="5062680" y="2607840"/>
              <a:ext cx="1129680" cy="1170000"/>
              <a:chOff x="5062680" y="2607840"/>
              <a:chExt cx="1129680" cy="1170000"/>
            </a:xfrm>
          </p:grpSpPr>
          <p:sp>
            <p:nvSpPr>
              <p:cNvPr id="958" name=""/>
              <p:cNvSpPr/>
              <p:nvPr/>
            </p:nvSpPr>
            <p:spPr>
              <a:xfrm flipH="1" rot="4720800">
                <a:off x="5126040" y="2717280"/>
                <a:ext cx="1002600" cy="95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rot="4720800">
                <a:off x="5104080" y="2808720"/>
                <a:ext cx="441360" cy="36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H="1" flipV="1" rot="4720200">
              <a:off x="6761160" y="2918160"/>
              <a:ext cx="914400" cy="54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 rot="4720200">
              <a:off x="4946760" y="2899080"/>
              <a:ext cx="914400" cy="54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8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8422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6014160" y="3839760"/>
            <a:ext cx="2330280" cy="2592000"/>
            <a:chOff x="6014160" y="3839760"/>
            <a:chExt cx="2330280" cy="2592000"/>
          </a:xfrm>
        </p:grpSpPr>
        <p:grpSp>
          <p:nvGrpSpPr>
            <p:cNvPr id="963" name=""/>
            <p:cNvGrpSpPr/>
            <p:nvPr/>
          </p:nvGrpSpPr>
          <p:grpSpPr>
            <a:xfrm>
              <a:off x="6014160" y="3839760"/>
              <a:ext cx="1915200" cy="2592000"/>
              <a:chOff x="6014160" y="3839760"/>
              <a:chExt cx="1915200" cy="25920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7578720" y="3839760"/>
                <a:ext cx="4680" cy="22035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121520" y="5451480"/>
                <a:ext cx="417600" cy="33984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6014160" y="5119560"/>
                <a:ext cx="1206000" cy="1104840"/>
                <a:chOff x="6014160" y="5119560"/>
                <a:chExt cx="1206000" cy="1104840"/>
              </a:xfrm>
            </p:grpSpPr>
            <p:sp>
              <p:nvSpPr>
                <p:cNvPr id="967" name=""/>
                <p:cNvSpPr/>
                <p:nvPr/>
              </p:nvSpPr>
              <p:spPr>
                <a:xfrm rot="3864600">
                  <a:off x="6473160" y="5353200"/>
                  <a:ext cx="700920" cy="54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" y="10688"/>
                      </a:moveTo>
                      <a:arcTo wR="10800" hR="10800" stAng="-10764191" swAng="53484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88"/>
                      </a:moveTo>
                      <a:arcTo wR="10800" hR="10800" stAng="-10764191" swAng="5348422"/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miter/>
                  <a:headEnd len="med" type="triangle" w="med"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8" name=""/>
                <p:cNvGrpSpPr/>
                <p:nvPr/>
              </p:nvGrpSpPr>
              <p:grpSpPr>
                <a:xfrm>
                  <a:off x="6014160" y="5119560"/>
                  <a:ext cx="1190520" cy="1104840"/>
                  <a:chOff x="6014160" y="5119560"/>
                  <a:chExt cx="1190520" cy="110484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V="1" rot="3864600">
                    <a:off x="6224400" y="5195520"/>
                    <a:ext cx="769320" cy="951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ffffff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V="1" rot="3864600">
                    <a:off x="6757200" y="5554080"/>
                    <a:ext cx="3387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1" name=""/>
              <p:cNvSpPr/>
              <p:nvPr/>
            </p:nvSpPr>
            <p:spPr>
              <a:xfrm>
                <a:off x="7315200" y="6078600"/>
                <a:ext cx="6141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Na</a:t>
                </a:r>
                <a:r>
                  <a:rPr b="1" lang="en-US" sz="24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440040" y="6072120"/>
                <a:ext cx="4449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0480" rIns="60480" tIns="30240" bIns="3024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612720"/>
                    <a:tab algn="l" pos="1225440"/>
                    <a:tab algn="l" pos="1838160"/>
                    <a:tab algn="l" pos="2451240"/>
                    <a:tab algn="l" pos="3063960"/>
                    <a:tab algn="l" pos="3676680"/>
                    <a:tab algn="l" pos="4289400"/>
                    <a:tab algn="l" pos="4902120"/>
                    <a:tab algn="l" pos="5514840"/>
                    <a:tab algn="l" pos="6127920"/>
                    <a:tab algn="l" pos="6740640"/>
                    <a:tab algn="l" pos="7353360"/>
                    <a:tab algn="l" pos="7966080"/>
                    <a:tab algn="l" pos="8578800"/>
                    <a:tab algn="l" pos="9191520"/>
                    <a:tab algn="l" pos="9804240"/>
                    <a:tab algn="l" pos="104173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30000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517800" y="494172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TP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→ ADP+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Distribución de los aminoácidos en el período post-pra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86800" cy="1612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ayor parte de los aminoácidos: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tamina y Asparragina: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ntestino y riñ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de cadena ramificada: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úsculo y cereb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7680" y="3654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son incorporados los aminoácidos en las células de los distintos teji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56120" y="513252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usión facil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421080" y="4726080"/>
            <a:ext cx="5517000" cy="1224000"/>
            <a:chOff x="3421080" y="4726080"/>
            <a:chExt cx="5517000" cy="1224000"/>
          </a:xfrm>
        </p:grpSpPr>
        <p:sp>
          <p:nvSpPr>
            <p:cNvPr id="979" name=""/>
            <p:cNvSpPr/>
            <p:nvPr/>
          </p:nvSpPr>
          <p:spPr>
            <a:xfrm>
              <a:off x="3421080" y="4797720"/>
              <a:ext cx="287280" cy="1152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35280" y="4726080"/>
              <a:ext cx="530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Los transportadores se encuentran 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todas las célul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on específicos para grupos de aminoá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(neutros, catiónicos y de glutamato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8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195640" y="2421000"/>
            <a:ext cx="3744720" cy="2304720"/>
            <a:chOff x="2195640" y="2421000"/>
            <a:chExt cx="3744720" cy="2304720"/>
          </a:xfrm>
        </p:grpSpPr>
        <p:sp>
          <p:nvSpPr>
            <p:cNvPr id="990" name=""/>
            <p:cNvSpPr/>
            <p:nvPr/>
          </p:nvSpPr>
          <p:spPr>
            <a:xfrm>
              <a:off x="3492360" y="3189240"/>
              <a:ext cx="2448000" cy="885600"/>
            </a:xfrm>
            <a:prstGeom prst="rect">
              <a:avLst/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AMINOACIDOS </a:t>
              </a:r>
              <a:r>
                <a:rPr b="1" lang="es-AR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fondo metabólico comú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95640" y="2421000"/>
              <a:ext cx="1224000" cy="93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1280" y="3620880"/>
              <a:ext cx="10083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2268360" y="3933720"/>
              <a:ext cx="1151280" cy="7920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940360" y="1244520"/>
            <a:ext cx="3024360" cy="3854160"/>
            <a:chOff x="5940360" y="1244520"/>
            <a:chExt cx="3024360" cy="3854160"/>
          </a:xfrm>
        </p:grpSpPr>
        <p:sp>
          <p:nvSpPr>
            <p:cNvPr id="995" name=""/>
            <p:cNvSpPr/>
            <p:nvPr/>
          </p:nvSpPr>
          <p:spPr>
            <a:xfrm>
              <a:off x="6300720" y="124452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UTILIZAC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05440" y="1914480"/>
              <a:ext cx="1511640" cy="6426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Síntesis de 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04000" y="2925720"/>
              <a:ext cx="2016000" cy="11912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Síntesis de compuestos nitrogenados no prote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04000" y="4365360"/>
              <a:ext cx="1871640" cy="7333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Degradación y producción 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2000" y="4052880"/>
              <a:ext cx="647640" cy="5284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5940360" y="2277720"/>
              <a:ext cx="792360" cy="863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2000" y="3620880"/>
              <a:ext cx="7189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50920" y="1268280"/>
            <a:ext cx="2089080" cy="4140720"/>
            <a:chOff x="250920" y="1268280"/>
            <a:chExt cx="2089080" cy="4140720"/>
          </a:xfrm>
        </p:grpSpPr>
        <p:sp>
          <p:nvSpPr>
            <p:cNvPr id="1003" name=""/>
            <p:cNvSpPr/>
            <p:nvPr/>
          </p:nvSpPr>
          <p:spPr>
            <a:xfrm>
              <a:off x="324000" y="1268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ORI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4000" y="1268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ORI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68360" y="2028960"/>
              <a:ext cx="1727280" cy="6426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Absorción en intesti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50920" y="2992320"/>
              <a:ext cx="2089080" cy="11912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Degradación de proteínas endógenas (</a:t>
              </a:r>
              <a:r>
                <a:rPr b="0" i="1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Proteasas</a:t>
              </a: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6720" y="4340160"/>
              <a:ext cx="1871640" cy="106884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Síntesis de aminoácidos </a:t>
              </a:r>
              <a:r>
                <a:rPr b="0" lang="es-AR" sz="14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(principalmente en híg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0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1018" name="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1019" name="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1547640" y="1941840"/>
            <a:ext cx="4124160" cy="4917600"/>
            <a:chOff x="1547640" y="1941840"/>
            <a:chExt cx="4124160" cy="4917600"/>
          </a:xfrm>
        </p:grpSpPr>
        <p:sp>
          <p:nvSpPr>
            <p:cNvPr id="1035" name=""/>
            <p:cNvSpPr/>
            <p:nvPr/>
          </p:nvSpPr>
          <p:spPr>
            <a:xfrm rot="1249800">
              <a:off x="2340000" y="2276280"/>
              <a:ext cx="2663640" cy="4248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6200000">
              <a:off x="303120" y="4494960"/>
              <a:ext cx="31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tabolismo del nitróge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356000" y="2637000"/>
            <a:ext cx="338292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4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4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1053" name="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1058" name="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6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030120" y="69228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438160" y="1916280"/>
            <a:ext cx="3762360" cy="1665000"/>
            <a:chOff x="5438160" y="1916280"/>
            <a:chExt cx="3762360" cy="1665000"/>
          </a:xfrm>
        </p:grpSpPr>
        <p:pic>
          <p:nvPicPr>
            <p:cNvPr id="1070" name="" descr=""/>
            <p:cNvPicPr/>
            <p:nvPr/>
          </p:nvPicPr>
          <p:blipFill>
            <a:blip r:embed="rId2"/>
            <a:srcRect l="52284" t="57333" r="0" b="5833"/>
            <a:stretch/>
          </p:blipFill>
          <p:spPr>
            <a:xfrm>
              <a:off x="5722920" y="1916280"/>
              <a:ext cx="3024360" cy="12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7215480" y="321300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aminoácido (R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438160" y="3213000"/>
              <a:ext cx="174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cetoácido 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254160" y="1844640"/>
            <a:ext cx="3668400" cy="1808280"/>
            <a:chOff x="254160" y="1844640"/>
            <a:chExt cx="3668400" cy="1808280"/>
          </a:xfrm>
        </p:grpSpPr>
        <p:pic>
          <p:nvPicPr>
            <p:cNvPr id="1074" name="" descr=""/>
            <p:cNvPicPr/>
            <p:nvPr/>
          </p:nvPicPr>
          <p:blipFill>
            <a:blip r:embed="rId3"/>
            <a:srcRect l="0" t="4211" r="48844" b="56002"/>
            <a:stretch/>
          </p:blipFill>
          <p:spPr>
            <a:xfrm>
              <a:off x="394920" y="1844640"/>
              <a:ext cx="31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254160" y="3284640"/>
              <a:ext cx="193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aminoácido 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126520" y="328464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cetoácido (R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3492360" y="1700280"/>
            <a:ext cx="2160360" cy="1298520"/>
            <a:chOff x="3492360" y="1700280"/>
            <a:chExt cx="2160360" cy="1298520"/>
          </a:xfrm>
        </p:grpSpPr>
        <p:grpSp>
          <p:nvGrpSpPr>
            <p:cNvPr id="1078" name=""/>
            <p:cNvGrpSpPr/>
            <p:nvPr/>
          </p:nvGrpSpPr>
          <p:grpSpPr>
            <a:xfrm>
              <a:off x="3779640" y="2421000"/>
              <a:ext cx="1512720" cy="144360"/>
              <a:chOff x="3779640" y="2421000"/>
              <a:chExt cx="1512720" cy="144360"/>
            </a:xfrm>
          </p:grpSpPr>
          <p:sp>
            <p:nvSpPr>
              <p:cNvPr id="1079" name=""/>
              <p:cNvSpPr/>
              <p:nvPr/>
            </p:nvSpPr>
            <p:spPr>
              <a:xfrm>
                <a:off x="3779640" y="2421000"/>
                <a:ext cx="15127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779640" y="2565360"/>
                <a:ext cx="14414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4160520" y="2630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92360" y="170028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minotransferasa o Trans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2414160" y="4076640"/>
            <a:ext cx="4890600" cy="2529000"/>
            <a:chOff x="2414160" y="4076640"/>
            <a:chExt cx="4890600" cy="2529000"/>
          </a:xfrm>
        </p:grpSpPr>
        <p:sp>
          <p:nvSpPr>
            <p:cNvPr id="1084" name=""/>
            <p:cNvSpPr/>
            <p:nvPr/>
          </p:nvSpPr>
          <p:spPr>
            <a:xfrm>
              <a:off x="2414160" y="62373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PLP: piridoxal 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5" name="" descr=""/>
            <p:cNvPicPr/>
            <p:nvPr/>
          </p:nvPicPr>
          <p:blipFill>
            <a:blip r:embed="rId4"/>
            <a:srcRect l="0" t="0" r="0" b="62275"/>
            <a:stretch/>
          </p:blipFill>
          <p:spPr>
            <a:xfrm>
              <a:off x="2738520" y="4076640"/>
              <a:ext cx="1778040" cy="20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5"/>
            <a:srcRect l="0" t="49011" r="0" b="13900"/>
            <a:stretch/>
          </p:blipFill>
          <p:spPr>
            <a:xfrm>
              <a:off x="5315040" y="4076640"/>
              <a:ext cx="1778040" cy="20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7" name=""/>
            <p:cNvGrpSpPr/>
            <p:nvPr/>
          </p:nvGrpSpPr>
          <p:grpSpPr>
            <a:xfrm>
              <a:off x="4500720" y="4869000"/>
              <a:ext cx="792000" cy="144360"/>
              <a:chOff x="4500720" y="4869000"/>
              <a:chExt cx="792000" cy="144360"/>
            </a:xfrm>
          </p:grpSpPr>
          <p:sp>
            <p:nvSpPr>
              <p:cNvPr id="1088" name=""/>
              <p:cNvSpPr/>
              <p:nvPr/>
            </p:nvSpPr>
            <p:spPr>
              <a:xfrm>
                <a:off x="4500720" y="4869000"/>
                <a:ext cx="79200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500720" y="5013360"/>
                <a:ext cx="75456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5083560" y="6165720"/>
              <a:ext cx="222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piridoxamina 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395280" y="2276640"/>
            <a:ext cx="792000" cy="576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904320" y="1916280"/>
            <a:ext cx="1727280" cy="87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7" y="7726"/>
                </a:moveTo>
                <a:arcTo wR="10800" hR="10800" stAng="-9807676" swAng="10318809"/>
                <a:lnTo>
                  <a:pt x="10800" y="10800"/>
                </a:lnTo>
                <a:close/>
              </a:path>
              <a:path fill="none" w="21600" h="21600">
                <a:moveTo>
                  <a:pt x="447" y="7726"/>
                </a:moveTo>
                <a:arcTo wR="10800" hR="10800" stAng="-9807676" swAng="10318809"/>
              </a:path>
            </a:pathLst>
          </a:custGeom>
          <a:noFill/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20000" y="2276640"/>
            <a:ext cx="79200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so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muy importantes en el metabolismo prote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aminoácidos (excepto lisina y treonina) participan en reacciones de transaminación con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α-cetoá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α-cetogluta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oxalo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9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9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755640" y="7491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708360" y="2924280"/>
            <a:ext cx="194328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429080" y="2924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635280" y="19162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lanina aminotransferasa (A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3219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pirúvico transaminasa 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50920" y="2209680"/>
            <a:ext cx="1728720" cy="2327400"/>
            <a:chOff x="250920" y="2209680"/>
            <a:chExt cx="1728720" cy="2327400"/>
          </a:xfrm>
        </p:grpSpPr>
        <p:graphicFrame>
          <p:nvGraphicFramePr>
            <p:cNvPr id="1109" name=""/>
            <p:cNvGraphicFramePr/>
            <p:nvPr/>
          </p:nvGraphicFramePr>
          <p:xfrm>
            <a:off x="250920" y="2209680"/>
            <a:ext cx="1728720" cy="143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2209680"/>
                      <a:ext cx="1728720" cy="14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1" name=""/>
            <p:cNvSpPr/>
            <p:nvPr/>
          </p:nvSpPr>
          <p:spPr>
            <a:xfrm>
              <a:off x="828360" y="41688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2052360" y="1890720"/>
            <a:ext cx="1845720" cy="2627280"/>
            <a:chOff x="2052360" y="1890720"/>
            <a:chExt cx="1845720" cy="2627280"/>
          </a:xfrm>
        </p:grpSpPr>
        <p:grpSp>
          <p:nvGrpSpPr>
            <p:cNvPr id="1113" name=""/>
            <p:cNvGrpSpPr/>
            <p:nvPr/>
          </p:nvGrpSpPr>
          <p:grpSpPr>
            <a:xfrm>
              <a:off x="2052360" y="1890720"/>
              <a:ext cx="1301760" cy="2259360"/>
              <a:chOff x="2052360" y="1890720"/>
              <a:chExt cx="1301760" cy="2259360"/>
            </a:xfrm>
          </p:grpSpPr>
          <p:sp>
            <p:nvSpPr>
              <p:cNvPr id="1114" name=""/>
              <p:cNvSpPr/>
              <p:nvPr/>
            </p:nvSpPr>
            <p:spPr>
              <a:xfrm>
                <a:off x="2052360" y="2682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2628720" y="1890720"/>
                <a:ext cx="725400" cy="2259360"/>
                <a:chOff x="2628720" y="1890720"/>
                <a:chExt cx="725400" cy="22593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628720" y="1947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83212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04956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266640" y="18907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628720" y="24256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6287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28321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035160" y="30096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26287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8321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035160" y="347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2628720" y="38145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83212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04956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266640" y="37573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728800" y="22460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860560" y="25826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728800" y="271296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728800" y="317808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728800" y="364644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2849400" y="26301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137040" y="241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8" name=""/>
            <p:cNvSpPr/>
            <p:nvPr/>
          </p:nvSpPr>
          <p:spPr>
            <a:xfrm>
              <a:off x="2053440" y="414972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797440" y="2276640"/>
            <a:ext cx="1095120" cy="2250720"/>
            <a:chOff x="5797440" y="2276640"/>
            <a:chExt cx="1095120" cy="2250720"/>
          </a:xfrm>
        </p:grpSpPr>
        <p:grpSp>
          <p:nvGrpSpPr>
            <p:cNvPr id="1140" name=""/>
            <p:cNvGrpSpPr/>
            <p:nvPr/>
          </p:nvGrpSpPr>
          <p:grpSpPr>
            <a:xfrm>
              <a:off x="6011640" y="2276640"/>
              <a:ext cx="725040" cy="1378800"/>
              <a:chOff x="6011640" y="2276640"/>
              <a:chExt cx="725040" cy="1378800"/>
            </a:xfrm>
          </p:grpSpPr>
          <p:sp>
            <p:nvSpPr>
              <p:cNvPr id="1141" name=""/>
              <p:cNvSpPr/>
              <p:nvPr/>
            </p:nvSpPr>
            <p:spPr>
              <a:xfrm>
                <a:off x="6011640" y="233388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21504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43248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49560" y="227664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11640" y="281160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1164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21468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417720" y="339588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11720" y="2632320"/>
                <a:ext cx="0" cy="18720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243480" y="296856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11720" y="3098880"/>
                <a:ext cx="0" cy="18576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32320" y="301644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519600" y="280044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5797440" y="4159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6875280" y="1700280"/>
            <a:ext cx="2016360" cy="2809800"/>
            <a:chOff x="6875280" y="1700280"/>
            <a:chExt cx="2016360" cy="2809800"/>
          </a:xfrm>
        </p:grpSpPr>
        <p:grpSp>
          <p:nvGrpSpPr>
            <p:cNvPr id="1156" name=""/>
            <p:cNvGrpSpPr/>
            <p:nvPr/>
          </p:nvGrpSpPr>
          <p:grpSpPr>
            <a:xfrm>
              <a:off x="6875280" y="1700280"/>
              <a:ext cx="1944720" cy="2361960"/>
              <a:chOff x="6875280" y="1700280"/>
              <a:chExt cx="1944720" cy="2361960"/>
            </a:xfrm>
          </p:grpSpPr>
          <p:graphicFrame>
            <p:nvGraphicFramePr>
              <p:cNvPr id="1157" name=""/>
              <p:cNvGraphicFramePr/>
              <p:nvPr/>
            </p:nvGraphicFramePr>
            <p:xfrm>
              <a:off x="7068960" y="170028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158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0028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9" name=""/>
              <p:cNvSpPr/>
              <p:nvPr/>
            </p:nvSpPr>
            <p:spPr>
              <a:xfrm>
                <a:off x="6875280" y="2708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7580160" y="41418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513720" y="5084640"/>
            <a:ext cx="74026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lización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ticularmente abundante en hígado, corazón y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250920" y="1940760"/>
            <a:ext cx="2516040" cy="1550520"/>
            <a:chOff x="250920" y="1940760"/>
            <a:chExt cx="2516040" cy="1550520"/>
          </a:xfrm>
        </p:grpSpPr>
        <p:sp>
          <p:nvSpPr>
            <p:cNvPr id="1163" name=""/>
            <p:cNvSpPr/>
            <p:nvPr/>
          </p:nvSpPr>
          <p:spPr>
            <a:xfrm>
              <a:off x="250920" y="2637000"/>
              <a:ext cx="792000" cy="57600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21066600">
              <a:off x="622440" y="2091960"/>
              <a:ext cx="2060280" cy="12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1" y="7191"/>
                  </a:moveTo>
                  <a:arcTo wR="10800" hR="10800" stAng="-9628813" swAng="9208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621" y="7191"/>
                  </a:moveTo>
                  <a:arcTo wR="10800" hR="10800" stAng="-9628813" swAng="9208795"/>
                </a:path>
              </a:pathLst>
            </a:custGeom>
            <a:noFill/>
            <a:ln w="4140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7020000" y="213372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1840" y="733320"/>
            <a:ext cx="8372520" cy="4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Arial"/>
              </a:rPr>
              <a:t>Que al finalizar la clase, sean capaces de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efinir y distinguir aminoácidos esenciales y no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ferenciar y formular las reacciones de transaminación y desaminación, comprendiendo su significado bi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Fundamentar la toxicidad del amon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o. Explicar su metabolización y excreción en los distintos organ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67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3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780000" y="3068640"/>
            <a:ext cx="180000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357440" y="306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564000" y="20811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partato aminotransferasa (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203640" y="342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oxalacético transaminasa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5640" y="8222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324000" y="1817640"/>
            <a:ext cx="3574080" cy="2627280"/>
            <a:chOff x="324000" y="1817640"/>
            <a:chExt cx="3574080" cy="2627280"/>
          </a:xfrm>
        </p:grpSpPr>
        <p:grpSp>
          <p:nvGrpSpPr>
            <p:cNvPr id="1180" name=""/>
            <p:cNvGrpSpPr/>
            <p:nvPr/>
          </p:nvGrpSpPr>
          <p:grpSpPr>
            <a:xfrm>
              <a:off x="2053440" y="1817640"/>
              <a:ext cx="1844640" cy="2627280"/>
              <a:chOff x="2053440" y="1817640"/>
              <a:chExt cx="1844640" cy="262728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2700000" y="1817640"/>
                <a:ext cx="725040" cy="2259360"/>
                <a:chOff x="2700000" y="1817640"/>
                <a:chExt cx="725040" cy="225936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2700000" y="18745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90340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12084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337560" y="18176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700000" y="2352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70000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90304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06080" y="293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70000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90304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06080" y="34034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700000" y="3741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90340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084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337560" y="3684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800080" y="217296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931840" y="250956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800080" y="263988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800080" y="310500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00080" y="357336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920680" y="255708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207960" y="23414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2125440" y="2781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053440" y="4076640"/>
                <a:ext cx="184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324000" y="2108160"/>
              <a:ext cx="1622160" cy="2330640"/>
              <a:chOff x="324000" y="2108160"/>
              <a:chExt cx="1622160" cy="2330640"/>
            </a:xfrm>
          </p:grpSpPr>
          <p:graphicFrame>
            <p:nvGraphicFramePr>
              <p:cNvPr id="1207" name=""/>
              <p:cNvGraphicFramePr/>
              <p:nvPr/>
            </p:nvGraphicFramePr>
            <p:xfrm>
              <a:off x="324000" y="2108160"/>
              <a:ext cx="1622160" cy="1752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20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24000" y="2108160"/>
                        <a:ext cx="1622160" cy="175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9" name=""/>
              <p:cNvSpPr/>
              <p:nvPr/>
            </p:nvSpPr>
            <p:spPr>
              <a:xfrm>
                <a:off x="686520" y="407052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Aspar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0" name=""/>
          <p:cNvGrpSpPr/>
          <p:nvPr/>
        </p:nvGrpSpPr>
        <p:grpSpPr>
          <a:xfrm>
            <a:off x="5831640" y="1773360"/>
            <a:ext cx="3131280" cy="2665440"/>
            <a:chOff x="5831640" y="1773360"/>
            <a:chExt cx="3131280" cy="2665440"/>
          </a:xfrm>
        </p:grpSpPr>
        <p:grpSp>
          <p:nvGrpSpPr>
            <p:cNvPr id="1211" name=""/>
            <p:cNvGrpSpPr/>
            <p:nvPr/>
          </p:nvGrpSpPr>
          <p:grpSpPr>
            <a:xfrm>
              <a:off x="6948360" y="1773360"/>
              <a:ext cx="2014560" cy="2593800"/>
              <a:chOff x="6948360" y="1773360"/>
              <a:chExt cx="2014560" cy="2593800"/>
            </a:xfrm>
          </p:grpSpPr>
          <p:sp>
            <p:nvSpPr>
              <p:cNvPr id="1212" name=""/>
              <p:cNvSpPr/>
              <p:nvPr/>
            </p:nvSpPr>
            <p:spPr>
              <a:xfrm>
                <a:off x="6948360" y="275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13" name=""/>
              <p:cNvGraphicFramePr/>
              <p:nvPr/>
            </p:nvGraphicFramePr>
            <p:xfrm>
              <a:off x="7068960" y="177336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1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7336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5" name=""/>
              <p:cNvSpPr/>
              <p:nvPr/>
            </p:nvSpPr>
            <p:spPr>
              <a:xfrm>
                <a:off x="7651440" y="3998880"/>
                <a:ext cx="131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831640" y="2100240"/>
              <a:ext cx="1474560" cy="2338560"/>
              <a:chOff x="5831640" y="2100240"/>
              <a:chExt cx="1474560" cy="233856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6151680" y="2100240"/>
                <a:ext cx="725040" cy="1761120"/>
                <a:chOff x="6151680" y="2100240"/>
                <a:chExt cx="725040" cy="17611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6151680" y="2157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3547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65725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789600" y="2100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6151680" y="2635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615168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635472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558120" y="321948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151680" y="35258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3547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65725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789600" y="34686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251760" y="245592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383520" y="279252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6251760" y="292248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251760" y="338760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372360" y="28400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659640" y="26240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5831640" y="40705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Oxalace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665280" y="5181480"/>
            <a:ext cx="6216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lización &gt;&gt; mitocondrial y &lt;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ticularmente abundante en hígado y co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24000" y="1728000"/>
            <a:ext cx="2495520" cy="1394640"/>
            <a:chOff x="324000" y="1728000"/>
            <a:chExt cx="2495520" cy="1394640"/>
          </a:xfrm>
        </p:grpSpPr>
        <p:sp>
          <p:nvSpPr>
            <p:cNvPr id="1239" name=""/>
            <p:cNvSpPr/>
            <p:nvPr/>
          </p:nvSpPr>
          <p:spPr>
            <a:xfrm>
              <a:off x="324000" y="2492280"/>
              <a:ext cx="792000" cy="57636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20878800">
              <a:off x="751320" y="1923840"/>
              <a:ext cx="1985400" cy="100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7" y="7726"/>
                  </a:moveTo>
                  <a:arcTo wR="10800" hR="10800" stAng="-9807676" swAng="10318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447" y="7726"/>
                  </a:moveTo>
                  <a:arcTo wR="10800" hR="10800" stAng="-9807676" swAng="10318809"/>
                </a:path>
              </a:pathLst>
            </a:custGeom>
            <a:noFill/>
            <a:ln w="4140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7093080" y="220500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4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5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1253" name="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4" name="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1258" name="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1261" name="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12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3" name="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7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9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1310" name="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1313" name="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1321" name="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1322" name="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n-US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1325" name="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1332" name="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3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3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1347" name="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1349" name="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1352" name="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5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5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1364" name="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6" name="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1368" name="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3203640" y="2066760"/>
            <a:ext cx="2624760" cy="1720800"/>
            <a:chOff x="3203640" y="2066760"/>
            <a:chExt cx="2624760" cy="1720800"/>
          </a:xfrm>
        </p:grpSpPr>
        <p:sp>
          <p:nvSpPr>
            <p:cNvPr id="1386" name="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03640" y="2781360"/>
              <a:ext cx="86328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15012000">
              <a:off x="4776480" y="2684160"/>
              <a:ext cx="86364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1395" name="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7" name="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130560" y="4365720"/>
            <a:ext cx="2624400" cy="1719720"/>
            <a:chOff x="3130560" y="4365720"/>
            <a:chExt cx="2624400" cy="1719720"/>
          </a:xfrm>
        </p:grpSpPr>
        <p:sp>
          <p:nvSpPr>
            <p:cNvPr id="1399" name="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30560" y="5079960"/>
              <a:ext cx="86328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5012000">
              <a:off x="4703400" y="4982040"/>
              <a:ext cx="86292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1407" name="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1408" name="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n-US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7" name="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43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5840" y="1363680"/>
            <a:ext cx="2161440" cy="2209680"/>
            <a:chOff x="465840" y="1363680"/>
            <a:chExt cx="2161440" cy="220968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466560" y="1363680"/>
              <a:ext cx="21607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5840" y="1363680"/>
              <a:ext cx="175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Quimotrips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3"/>
          <a:srcRect l="0" t="0" r="0" b="8571"/>
          <a:stretch/>
        </p:blipFill>
        <p:spPr>
          <a:xfrm>
            <a:off x="5724360" y="1125360"/>
            <a:ext cx="3024360" cy="2149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0" r="0" b="6304"/>
          <a:stretch/>
        </p:blipFill>
        <p:spPr>
          <a:xfrm>
            <a:off x="925560" y="4076640"/>
            <a:ext cx="3070080" cy="200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rcRect l="0" t="0" r="0" b="5298"/>
          <a:stretch/>
        </p:blipFill>
        <p:spPr>
          <a:xfrm>
            <a:off x="4427640" y="3841920"/>
            <a:ext cx="2944800" cy="246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18000" y="62064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versidad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8440" y="6524640"/>
            <a:ext cx="21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"/>
              </a:rPr>
              <a:t>Extraído de Lehninger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2771640" y="1125360"/>
            <a:ext cx="2664000" cy="2130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03680" y="32130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ínas de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6840" y="32781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ci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7600" y="604044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1240" y="6256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632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MINOA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2743200" y="3062160"/>
          <a:ext cx="3505320" cy="28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062160"/>
                    <a:ext cx="35053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5911920" y="1569960"/>
            <a:ext cx="2189520" cy="1660680"/>
            <a:chOff x="5911920" y="1569960"/>
            <a:chExt cx="2189520" cy="1660680"/>
          </a:xfrm>
        </p:grpSpPr>
        <p:sp>
          <p:nvSpPr>
            <p:cNvPr id="112" name=""/>
            <p:cNvSpPr/>
            <p:nvPr/>
          </p:nvSpPr>
          <p:spPr>
            <a:xfrm>
              <a:off x="5911920" y="1569960"/>
              <a:ext cx="218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Grupo carboxi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disociad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2360" y="2392560"/>
              <a:ext cx="38088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683800" y="5576400"/>
            <a:ext cx="1964520" cy="1024200"/>
            <a:chOff x="2683800" y="5576400"/>
            <a:chExt cx="1964520" cy="1024200"/>
          </a:xfrm>
        </p:grpSpPr>
        <p:sp>
          <p:nvSpPr>
            <p:cNvPr id="115" name=""/>
            <p:cNvSpPr/>
            <p:nvPr/>
          </p:nvSpPr>
          <p:spPr>
            <a:xfrm>
              <a:off x="2683800" y="577512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ade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late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09880" y="5576400"/>
              <a:ext cx="838440" cy="609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81120" y="4738680"/>
            <a:ext cx="2703960" cy="1409040"/>
            <a:chOff x="5181120" y="4738680"/>
            <a:chExt cx="2703960" cy="1409040"/>
          </a:xfrm>
        </p:grpSpPr>
        <p:sp>
          <p:nvSpPr>
            <p:cNvPr id="118" name=""/>
            <p:cNvSpPr/>
            <p:nvPr/>
          </p:nvSpPr>
          <p:spPr>
            <a:xfrm>
              <a:off x="6386400" y="5688000"/>
              <a:ext cx="149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Carbono </a:t>
              </a: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181120" y="4738680"/>
              <a:ext cx="1219320" cy="990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840" y="2452680"/>
            <a:ext cx="2071440" cy="1595520"/>
            <a:chOff x="609840" y="2452680"/>
            <a:chExt cx="2071440" cy="1595520"/>
          </a:xfrm>
        </p:grpSpPr>
        <p:sp>
          <p:nvSpPr>
            <p:cNvPr id="121" name=""/>
            <p:cNvSpPr/>
            <p:nvPr/>
          </p:nvSpPr>
          <p:spPr>
            <a:xfrm>
              <a:off x="609840" y="2452680"/>
              <a:ext cx="179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cc"/>
                  </a:solidFill>
                  <a:latin typeface="Times New Roman"/>
                </a:rPr>
                <a:t>Grupo ami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cc"/>
                  </a:solidFill>
                  <a:latin typeface="Times New Roman"/>
                </a:rPr>
                <a:t>(protonad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5640" y="3256200"/>
              <a:ext cx="485640" cy="792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11280" y="3975120"/>
            <a:ext cx="2016360" cy="1079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2967120"/>
            <a:ext cx="2016000" cy="1079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3975120"/>
            <a:ext cx="1081080" cy="936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4911840"/>
            <a:ext cx="1800000" cy="1079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440" y="6922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Repas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4960" y="2708280"/>
            <a:ext cx="6000480" cy="1362600"/>
            <a:chOff x="1524960" y="2708280"/>
            <a:chExt cx="6000480" cy="1362600"/>
          </a:xfrm>
        </p:grpSpPr>
        <p:sp>
          <p:nvSpPr>
            <p:cNvPr id="129" name=""/>
            <p:cNvSpPr/>
            <p:nvPr/>
          </p:nvSpPr>
          <p:spPr>
            <a:xfrm>
              <a:off x="15249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39880" y="33210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615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78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5760" y="2708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45760" y="3687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60680" y="3811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528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398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4600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87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476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55560" y="2708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508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96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55560" y="3687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0480" y="38113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2-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5580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6856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574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65360" y="27082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65360" y="3687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80280" y="3811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4488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94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86240" y="3197160"/>
              <a:ext cx="227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3040" y="319716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81160" y="3362040"/>
              <a:ext cx="223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443320" y="3009240"/>
              <a:ext cx="0" cy="1954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3320" y="3500280"/>
              <a:ext cx="0" cy="1951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9760" y="3362040"/>
              <a:ext cx="2142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8932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9096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353120" y="3009240"/>
              <a:ext cx="0" cy="1954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89560" y="3362040"/>
              <a:ext cx="2142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53120" y="3500280"/>
              <a:ext cx="0" cy="195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9912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0760" y="3362040"/>
              <a:ext cx="223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262920" y="3009240"/>
              <a:ext cx="0" cy="1954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2920" y="3500280"/>
              <a:ext cx="0" cy="195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99360" y="3362040"/>
              <a:ext cx="2142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700360" y="2997360"/>
            <a:ext cx="1432080" cy="79056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492360" y="2448000"/>
            <a:ext cx="2157480" cy="2063160"/>
            <a:chOff x="3492360" y="2448000"/>
            <a:chExt cx="2157480" cy="2063160"/>
          </a:xfrm>
        </p:grpSpPr>
        <p:sp>
          <p:nvSpPr>
            <p:cNvPr id="172" name=""/>
            <p:cNvSpPr/>
            <p:nvPr/>
          </p:nvSpPr>
          <p:spPr>
            <a:xfrm>
              <a:off x="3492360" y="2448000"/>
              <a:ext cx="142920" cy="1944720"/>
            </a:xfrm>
            <a:custGeom>
              <a:avLst/>
              <a:gdLst>
                <a:gd name="textAreaLeft" fmla="*/ 42120 w 142920"/>
                <a:gd name="textAreaRight" fmla="*/ 143280 w 142920"/>
                <a:gd name="textAreaTop" fmla="*/ 81000 h 1944720"/>
                <a:gd name="textAreaBottom" fmla="*/ 18637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147640" y="2448000"/>
              <a:ext cx="144360" cy="1944720"/>
            </a:xfrm>
            <a:custGeom>
              <a:avLst/>
              <a:gdLst>
                <a:gd name="textAreaLeft" fmla="*/ 42480 w 144360"/>
                <a:gd name="textAreaRight" fmla="*/ 144360 w 144360"/>
                <a:gd name="textAreaTop" fmla="*/ 81000 h 1944720"/>
                <a:gd name="textAreaBottom" fmla="*/ 18637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83360" y="4051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9920" y="2998800"/>
            <a:ext cx="1432080" cy="79056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00" y="1243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epas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33440" y="2637000"/>
            <a:ext cx="2199960" cy="2044440"/>
            <a:chOff x="1333440" y="2637000"/>
            <a:chExt cx="2199960" cy="2044440"/>
          </a:xfrm>
        </p:grpSpPr>
        <p:sp>
          <p:nvSpPr>
            <p:cNvPr id="178" name=""/>
            <p:cNvSpPr/>
            <p:nvPr/>
          </p:nvSpPr>
          <p:spPr>
            <a:xfrm>
              <a:off x="1403280" y="2637000"/>
              <a:ext cx="2016360" cy="1512720"/>
            </a:xfrm>
            <a:prstGeom prst="roundRect">
              <a:avLst>
                <a:gd name="adj" fmla="val 0"/>
              </a:avLst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33440" y="4313160"/>
              <a:ext cx="21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AA amino term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64000" y="2637000"/>
            <a:ext cx="2905200" cy="2023920"/>
            <a:chOff x="5364000" y="2637000"/>
            <a:chExt cx="2905200" cy="2023920"/>
          </a:xfrm>
        </p:grpSpPr>
        <p:sp>
          <p:nvSpPr>
            <p:cNvPr id="181" name=""/>
            <p:cNvSpPr/>
            <p:nvPr/>
          </p:nvSpPr>
          <p:spPr>
            <a:xfrm>
              <a:off x="5364000" y="2637000"/>
              <a:ext cx="2232360" cy="1512720"/>
            </a:xfrm>
            <a:prstGeom prst="roundRect">
              <a:avLst>
                <a:gd name="adj" fmla="val 0"/>
              </a:avLst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26160" y="4292640"/>
              <a:ext cx="25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AA carboxilo term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07600" y="1720800"/>
            <a:ext cx="2119320" cy="1276560"/>
            <a:chOff x="3207600" y="1720800"/>
            <a:chExt cx="2119320" cy="1276560"/>
          </a:xfrm>
        </p:grpSpPr>
        <p:sp>
          <p:nvSpPr>
            <p:cNvPr id="184" name=""/>
            <p:cNvSpPr/>
            <p:nvPr/>
          </p:nvSpPr>
          <p:spPr>
            <a:xfrm>
              <a:off x="3207600" y="1720800"/>
              <a:ext cx="21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66ff"/>
                  </a:solidFill>
                  <a:latin typeface="Arial"/>
                </a:rPr>
                <a:t>Uniones pept</a:t>
              </a:r>
              <a:r>
                <a:rPr b="0" lang="en-US" sz="1800" spc="-1" strike="noStrike">
                  <a:solidFill>
                    <a:srgbClr val="0066ff"/>
                  </a:solidFill>
                  <a:latin typeface="Arial"/>
                  <a:ea typeface="Arial"/>
                </a:rPr>
                <a:t>í</a:t>
              </a:r>
              <a:r>
                <a:rPr b="0" lang="es-ES_tradnl" sz="1800" spc="-1" strike="noStrike">
                  <a:solidFill>
                    <a:srgbClr val="0066ff"/>
                  </a:solidFill>
                  <a:latin typeface="Arial"/>
                </a:rPr>
                <a:t>d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64000" y="2060640"/>
              <a:ext cx="503280" cy="936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7640" y="2060640"/>
              <a:ext cx="649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MINOACIDO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Arial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87400" y="1125000"/>
            <a:ext cx="4537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inoácidos esenciales en roedores, insectos, peces*, aves* y humanos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50920" y="1052640"/>
            <a:ext cx="40384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inoácido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9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572000" y="1806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son sintetizados por el organismo.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ben ser incorporados con la dieta.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tener el crecimiento y el equilibrio nitroge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10040" y="3141720"/>
            <a:ext cx="3754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Val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Leuc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soleuc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Tre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Lis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Histidina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Metionina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rginina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3139920"/>
            <a:ext cx="40384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lani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Seri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Cisteí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c. Aspá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c. Glutámico  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Asparagina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    Pr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3080" y="1700280"/>
            <a:ext cx="36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ntetizados por el org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300640"/>
            <a:ext cx="84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# Los 20 AAs pueden ser sintetizados por los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* Peces y aves poseen además otros aminoácidos esen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** En humanos, Histidina es esencial en niños y Arginina es parcialmente esen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0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252360" y="1533600"/>
          <a:ext cx="167652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533600"/>
                    <a:ext cx="16765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60680" y="296712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4640" y="762120"/>
            <a:ext cx="80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gunos aminoácidos que veremos en est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421000"/>
            <a:ext cx="865080" cy="5745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83000" y="1531800"/>
          <a:ext cx="162216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1531800"/>
                    <a:ext cx="16221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943360" y="332748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2421000"/>
            <a:ext cx="1008000" cy="936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716360" y="1413000"/>
          <a:ext cx="1455840" cy="196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1413000"/>
                    <a:ext cx="145584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076000" y="339876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205000"/>
            <a:ext cx="863640" cy="1295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18400" y="1444680"/>
          <a:ext cx="1601640" cy="191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18400" y="1444680"/>
                    <a:ext cx="16016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350840" y="339876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u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cc"/>
                </a:solidFill>
                <a:latin typeface="Times New Roman"/>
              </a:rPr>
              <a:t>G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80360" y="2205000"/>
            <a:ext cx="1152360" cy="12952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440" y="407664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A neutro o alif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916360" y="4078440"/>
            <a:ext cx="3600360" cy="1217160"/>
            <a:chOff x="2916360" y="4078440"/>
            <a:chExt cx="3600360" cy="1217160"/>
          </a:xfrm>
        </p:grpSpPr>
        <p:sp>
          <p:nvSpPr>
            <p:cNvPr id="230" name=""/>
            <p:cNvSpPr/>
            <p:nvPr/>
          </p:nvSpPr>
          <p:spPr>
            <a:xfrm>
              <a:off x="3999960" y="4653000"/>
              <a:ext cx="91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AAs 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4537080" y="2457360"/>
              <a:ext cx="358560" cy="360036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93600 h 3600360"/>
                <a:gd name="textAreaBottom" fmla="*/ 350676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439760" y="42926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A a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11:52Z</dcterms:created>
  <dc:creator>Colossus User</dc:creator>
  <dc:description/>
  <dc:language>en-US</dc:language>
  <cp:lastModifiedBy>Colossus User</cp:lastModifiedBy>
  <dcterms:modified xsi:type="dcterms:W3CDTF">2012-05-28T15:43:54Z</dcterms:modified>
  <cp:revision>116</cp:revision>
  <dc:subject/>
  <dc:title>METABOLISMO DE LIPIDOS</dc:title>
</cp:coreProperties>
</file>